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21.jpeg" ContentType="image/jpeg"/>
  <Override PartName="/ppt/media/image29.png" ContentType="image/png"/>
  <Override PartName="/ppt/media/image12.wmf" ContentType="image/x-wmf"/>
  <Override PartName="/ppt/media/image27.png" ContentType="image/png"/>
  <Override PartName="/ppt/media/image4.png" ContentType="image/png"/>
  <Override PartName="/ppt/media/image5.png" ContentType="image/png"/>
  <Override PartName="/ppt/media/image13.wmf" ContentType="image/x-wmf"/>
  <Override PartName="/ppt/media/image35.gif" ContentType="image/gif"/>
  <Override PartName="/ppt/media/image28.png" ContentType="image/png"/>
  <Override PartName="/ppt/media/image9.png" ContentType="image/png"/>
  <Override PartName="/ppt/media/image17.wmf" ContentType="image/x-wmf"/>
  <Override PartName="/ppt/media/image31.jpeg" ContentType="image/jpeg"/>
  <Override PartName="/ppt/media/image2.png" ContentType="image/png"/>
  <Override PartName="/ppt/media/image32.jpeg" ContentType="image/jpeg"/>
  <Override PartName="/ppt/media/image7.gif" ContentType="image/gif"/>
  <Override PartName="/ppt/media/image18.wmf" ContentType="image/x-wmf"/>
  <Override PartName="/ppt/media/image33.png" ContentType="image/png"/>
  <Override PartName="/ppt/media/image8.png" ContentType="image/png"/>
  <Override PartName="/ppt/media/image14.jpeg" ContentType="image/jpeg"/>
  <Override PartName="/ppt/media/image34.jpeg" ContentType="image/jpeg"/>
  <Override PartName="/ppt/media/image11.png" ContentType="image/png"/>
  <Override PartName="/ppt/media/image25.png" ContentType="image/png"/>
  <Override PartName="/ppt/media/image19.jpeg" ContentType="image/jpeg"/>
  <Override PartName="/ppt/media/image6.png" ContentType="image/png"/>
  <Override PartName="/ppt/media/image30.png" ContentType="image/png"/>
  <Override PartName="/ppt/media/image3.jpeg" ContentType="image/jpeg"/>
  <Override PartName="/ppt/media/image10.png" ContentType="image/png"/>
  <Override PartName="/ppt/media/image1.jpeg" ContentType="image/jpeg"/>
  <Override PartName="/ppt/media/image15.jpeg" ContentType="image/jpeg"/>
  <Override PartName="/ppt/media/image16.jpeg" ContentType="image/jpeg"/>
  <Override PartName="/ppt/media/image2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DA355-BF8A-4951-B8AE-E4C46A9420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23536-BBB8-4D9F-9710-D400A26428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Rajouter des images de satellites: COMPTON, SIGN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0ABBE-8F0A-43F0-999E-5FA8B5CCCE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enitor-bright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80C7-C47B-44DD-8AAC-BEC8976D2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0D5A-5D93-4504-B8E9-BC5DA2E15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02FF-65C6-4F1C-8055-6B75B72C1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A68A-DECF-4EC0-B145-928E9E785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7B68-9201-4F30-9073-13E713578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2BE4-009F-45EB-B268-C23CA16B2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79B9-B6BD-4E40-AD6D-7EE48683B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7C67-216F-4F7F-8004-917977F36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B53A-B9B7-48FE-B21F-A71DB0D4A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55B4-83C7-4F89-9BA7-5E5644BA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6C4D-805B-4E13-AEBB-095D8BA3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9F26-4E6D-4CB7-A240-9B87C162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7BB57-28EA-4613-837F-B4480521A8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hyperlink" Target="http://195.221.212.76/ros/GRB070913_003702_SWIFT" TargetMode="External"/><Relationship Id="rId4" Type="http://schemas.openxmlformats.org/officeDocument/2006/relationships/hyperlink" Target="http://195.221.212.76/ros/GRB070913_003702_SWIFT/sum.html" TargetMode="External"/><Relationship Id="rId5" Type="http://schemas.openxmlformats.org/officeDocument/2006/relationships/hyperlink" Target="http://195.221.212.76/ros/GRB070913_003702_SWIFT/photometry.html" TargetMode="External"/><Relationship Id="rId6" Type="http://schemas.openxmlformats.org/officeDocument/2006/relationships/hyperlink" Target="http://195.221.212.76/ros/GRB070913_003702_SWIFT.txt" TargetMode="External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8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gi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8920" y="2060280"/>
            <a:ext cx="66963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mma-Ray Bursts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 and ground observ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42920" y="5373720"/>
            <a:ext cx="3961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hel Boë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ervatoire de Haute Prov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042920" y="5373720"/>
            <a:ext cx="3552840" cy="10191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540480" y="1052640"/>
            <a:ext cx="195408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B from Earth and Sp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B are pan-chromatic phenom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mpt ev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ction and localization (HETE, INTEGRAL, SWIFT, </a:t>
            </a:r>
            <a:r>
              <a:rPr b="0" lang="en-US" sz="1400" spc="-1" strike="noStrike">
                <a:solidFill>
                  <a:srgbClr val="ff9933"/>
                </a:solidFill>
                <a:latin typeface="Arial"/>
              </a:rPr>
              <a:t>SVO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mma-ray and X-ray (HETE, SWIFT, </a:t>
            </a:r>
            <a:r>
              <a:rPr b="0" lang="en-US" sz="1400" spc="-1" strike="noStrike">
                <a:solidFill>
                  <a:srgbClr val="ff9933"/>
                </a:solidFill>
                <a:latin typeface="Arial"/>
              </a:rPr>
              <a:t>SVO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cursor (HETE, </a:t>
            </a:r>
            <a:r>
              <a:rPr b="0" lang="en-US" sz="1400" spc="-1" strike="noStrike">
                <a:solidFill>
                  <a:srgbClr val="ff9933"/>
                </a:solidFill>
                <a:latin typeface="Arial"/>
              </a:rPr>
              <a:t>SVO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fterg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rly afterglow, when does it starts (SWIFT, SVO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ng lasting afterglow (HST/JW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-ray (SWIFT, XMM, Chandra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Visible (SWIFT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rom 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rompt event (if &gt; 10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GRB – SN associ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is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GRB/AG trans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fterg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rphan afterg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rphan OT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adio, IR, Optical, VHEG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ventually neutrinos, UHECR, Gravitationnal wa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ole astrparticule OH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RB - 13/09/07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GRBs from Earth and Sp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5148360" y="1844640"/>
            <a:ext cx="3681360" cy="4608720"/>
            <a:chOff x="5148360" y="1844640"/>
            <a:chExt cx="3681360" cy="4608720"/>
          </a:xfrm>
        </p:grpSpPr>
        <p:pic>
          <p:nvPicPr>
            <p:cNvPr id="106" name="" descr=""/>
            <p:cNvPicPr/>
            <p:nvPr/>
          </p:nvPicPr>
          <p:blipFill>
            <a:blip r:embed="rId2"/>
            <a:stretch/>
          </p:blipFill>
          <p:spPr>
            <a:xfrm>
              <a:off x="5148360" y="1844640"/>
              <a:ext cx="3681360" cy="460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 flipH="1" flipV="1">
              <a:off x="5607360" y="2970720"/>
              <a:ext cx="1329840" cy="1160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468360" y="5373720"/>
            <a:ext cx="17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GRB 0212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267520" y="6041880"/>
            <a:ext cx="171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08080"/>
                </a:solidFill>
                <a:latin typeface="Arial"/>
              </a:rPr>
              <a:t>Della Valle et al.,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250920" y="1268280"/>
            <a:ext cx="4752720" cy="3394080"/>
            <a:chOff x="250920" y="1268280"/>
            <a:chExt cx="4752720" cy="3394080"/>
          </a:xfrm>
        </p:grpSpPr>
        <p:pic>
          <p:nvPicPr>
            <p:cNvPr id="111" name="" descr=""/>
            <p:cNvPicPr/>
            <p:nvPr/>
          </p:nvPicPr>
          <p:blipFill>
            <a:blip r:embed="rId3"/>
            <a:stretch/>
          </p:blipFill>
          <p:spPr>
            <a:xfrm>
              <a:off x="250920" y="1268280"/>
              <a:ext cx="4752720" cy="339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3402000" y="1289160"/>
              <a:ext cx="79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808080"/>
                  </a:solidFill>
                  <a:latin typeface="Arial"/>
                </a:rPr>
                <a:t>HE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692360" y="1557360"/>
              <a:ext cx="0" cy="2376360"/>
            </a:xfrm>
            <a:prstGeom prst="line">
              <a:avLst/>
            </a:prstGeom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692360" y="1557360"/>
              <a:ext cx="3311280" cy="2376360"/>
            </a:xfrm>
            <a:prstGeom prst="rect">
              <a:avLst/>
            </a:prstGeom>
            <a:solidFill>
              <a:srgbClr val="00ff00">
                <a:alpha val="1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900000" y="3933720"/>
            <a:ext cx="0" cy="100800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81640" y="4745160"/>
            <a:ext cx="15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HETE Trig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771640" y="5197320"/>
            <a:ext cx="1800360" cy="536760"/>
          </a:xfrm>
          <a:prstGeom prst="borderCallout1">
            <a:avLst>
              <a:gd name="adj1" fmla="val 18750"/>
              <a:gd name="adj2" fmla="val -8333"/>
              <a:gd name="adj3" fmla="val -392305"/>
              <a:gd name="adj4" fmla="val -41888"/>
            </a:avLst>
          </a:prstGeom>
          <a:solidFill>
            <a:srgbClr val="bbe0e3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Rapid robitic telescopes st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80000" y="2781360"/>
            <a:ext cx="647640" cy="2376360"/>
          </a:xfrm>
          <a:prstGeom prst="rect">
            <a:avLst/>
          </a:prstGeom>
          <a:solidFill>
            <a:srgbClr val="00ff00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613560" y="1154160"/>
            <a:ext cx="1297080" cy="609480"/>
          </a:xfrm>
          <a:prstGeom prst="borderCallout1">
            <a:avLst>
              <a:gd name="adj1" fmla="val 18750"/>
              <a:gd name="adj2" fmla="val -8333"/>
              <a:gd name="adj3" fmla="val 304689"/>
              <a:gd name="adj4" fmla="val -47245"/>
            </a:avLst>
          </a:prstGeom>
          <a:solidFill>
            <a:srgbClr val="bbe0e3"/>
          </a:solid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Robotic telesco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227640" y="2781360"/>
            <a:ext cx="2305080" cy="2376360"/>
          </a:xfrm>
          <a:prstGeom prst="rect">
            <a:avLst/>
          </a:prstGeom>
          <a:solidFill>
            <a:srgbClr val="ffff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991200" y="5614920"/>
            <a:ext cx="143208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8203"/>
              <a:gd name="adj5" fmla="val -326564"/>
              <a:gd name="adj6" fmla="val -8537"/>
            </a:avLst>
          </a:prstGeom>
          <a:solidFill>
            <a:srgbClr val="bbe0e3"/>
          </a:solid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OO with large telesco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ole astrparticule OH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RB - 13/09/07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395280" y="1389240"/>
            <a:ext cx="7632720" cy="4079520"/>
            <a:chOff x="395280" y="1389240"/>
            <a:chExt cx="7632720" cy="4079520"/>
          </a:xfrm>
        </p:grpSpPr>
        <p:graphicFrame>
          <p:nvGraphicFramePr>
            <p:cNvPr id="123" name=""/>
            <p:cNvGraphicFramePr/>
            <p:nvPr/>
          </p:nvGraphicFramePr>
          <p:xfrm>
            <a:off x="1114560" y="1389240"/>
            <a:ext cx="6913440" cy="4079520"/>
          </p:xfrm>
          <a:graphic>
            <a:graphicData uri="http://schemas.openxmlformats.org/presentationml/2006/ole">
              <p:oleObj progId="Excel.Sheet.12" r:id="rId2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114560" y="1389240"/>
                      <a:ext cx="6913440" cy="4079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1692000" y="364500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pa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346200" y="2852640"/>
              <a:ext cx="107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round rap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927680" y="2060640"/>
              <a:ext cx="2738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arge facilities (VLT, Subaru, Keck…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95280" y="2349360"/>
              <a:ext cx="1584360" cy="863640"/>
            </a:xfrm>
            <a:prstGeom prst="wedgeEllipseCallout">
              <a:avLst>
                <a:gd name="adj1" fmla="val 25851"/>
                <a:gd name="adj2" fmla="val 12536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ecusso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only from space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56000" y="1628640"/>
              <a:ext cx="1584360" cy="863640"/>
            </a:xfrm>
            <a:prstGeom prst="wedgeEllipseCallout">
              <a:avLst>
                <a:gd name="adj1" fmla="val 87675"/>
                <a:gd name="adj2" fmla="val 10900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rpha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Only from Earth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356000" y="3141720"/>
              <a:ext cx="1008000" cy="57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342760" y="3643200"/>
              <a:ext cx="185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WIFT (XRT, UVO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ole astrparticule OH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RB - 13/09/07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TE-2 X-Ray Flashes vs. GR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219320" y="1054080"/>
            <a:ext cx="5879880" cy="54100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111200" y="2602080"/>
            <a:ext cx="2940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GRB Spect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eaks in Gamma - R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402800" y="5268960"/>
            <a:ext cx="206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XRF Spectr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Peaks in X-R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4368960" y="1066680"/>
            <a:ext cx="1689120" cy="4902480"/>
            <a:chOff x="4368960" y="1066680"/>
            <a:chExt cx="1689120" cy="4902480"/>
          </a:xfrm>
        </p:grpSpPr>
        <p:sp>
          <p:nvSpPr>
            <p:cNvPr id="137" name=""/>
            <p:cNvSpPr/>
            <p:nvPr/>
          </p:nvSpPr>
          <p:spPr>
            <a:xfrm>
              <a:off x="4368960" y="1066680"/>
              <a:ext cx="1689120" cy="4902480"/>
            </a:xfrm>
            <a:prstGeom prst="rect">
              <a:avLst/>
            </a:prstGeom>
            <a:solidFill>
              <a:srgbClr val="bbe0e3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 txBox="1"/>
            <p:nvPr/>
          </p:nvSpPr>
          <p:spPr>
            <a:xfrm rot="19134000">
              <a:off x="4397400" y="3785760"/>
              <a:ext cx="1550880" cy="374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49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Swift Passband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ole astrparticule OH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RB - 13/09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353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endence of GRB Peak Spectral Energy (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ea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n Burst Isotropic Radiated Energy (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s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90360" y="963720"/>
            <a:ext cx="5923080" cy="5284800"/>
          </a:xfrm>
          <a:prstGeom prst="rect">
            <a:avLst/>
          </a:prstGeom>
          <a:ln w="0">
            <a:noFill/>
          </a:ln>
        </p:spPr>
      </p:pic>
      <p:grpSp>
        <p:nvGrpSpPr>
          <p:cNvPr id="141" name=""/>
          <p:cNvGrpSpPr/>
          <p:nvPr/>
        </p:nvGrpSpPr>
        <p:grpSpPr>
          <a:xfrm>
            <a:off x="0" y="1052640"/>
            <a:ext cx="5922720" cy="5284800"/>
            <a:chOff x="0" y="1052640"/>
            <a:chExt cx="5922720" cy="5284800"/>
          </a:xfrm>
        </p:grpSpPr>
        <p:pic>
          <p:nvPicPr>
            <p:cNvPr id="142" name="" descr=""/>
            <p:cNvPicPr/>
            <p:nvPr/>
          </p:nvPicPr>
          <p:blipFill>
            <a:blip r:embed="rId3"/>
            <a:stretch/>
          </p:blipFill>
          <p:spPr>
            <a:xfrm>
              <a:off x="0" y="1052640"/>
              <a:ext cx="5922720" cy="5284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3" name=""/>
            <p:cNvGrpSpPr/>
            <p:nvPr/>
          </p:nvGrpSpPr>
          <p:grpSpPr>
            <a:xfrm>
              <a:off x="1245960" y="1598760"/>
              <a:ext cx="960840" cy="337320"/>
              <a:chOff x="1245960" y="1598760"/>
              <a:chExt cx="960840" cy="337320"/>
            </a:xfrm>
          </p:grpSpPr>
          <p:sp>
            <p:nvSpPr>
              <p:cNvPr id="144" name=""/>
              <p:cNvSpPr/>
              <p:nvPr/>
            </p:nvSpPr>
            <p:spPr>
              <a:xfrm>
                <a:off x="1245960" y="1716480"/>
                <a:ext cx="109440" cy="109440"/>
              </a:xfrm>
              <a:prstGeom prst="ellipse">
                <a:avLst/>
              </a:prstGeom>
              <a:solidFill>
                <a:srgbClr val="ff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485000" y="1598760"/>
                <a:ext cx="721800" cy="3373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HE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6" name=""/>
          <p:cNvGrpSpPr/>
          <p:nvPr/>
        </p:nvGrpSpPr>
        <p:grpSpPr>
          <a:xfrm>
            <a:off x="1346040" y="1116000"/>
            <a:ext cx="1265760" cy="307080"/>
            <a:chOff x="1346040" y="1116000"/>
            <a:chExt cx="1265760" cy="307080"/>
          </a:xfrm>
        </p:grpSpPr>
        <p:sp>
          <p:nvSpPr>
            <p:cNvPr id="147" name=""/>
            <p:cNvSpPr/>
            <p:nvPr/>
          </p:nvSpPr>
          <p:spPr>
            <a:xfrm>
              <a:off x="1346040" y="1219320"/>
              <a:ext cx="109800" cy="109440"/>
            </a:xfrm>
            <a:prstGeom prst="ellipse">
              <a:avLst/>
            </a:prstGeom>
            <a:solidFill>
              <a:srgbClr val="349a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559520" y="1116000"/>
              <a:ext cx="1052280" cy="307080"/>
            </a:xfrm>
            <a:prstGeom prst="rec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eppoSA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1612800" y="5286240"/>
            <a:ext cx="3794040" cy="303120"/>
            <a:chOff x="1612800" y="5286240"/>
            <a:chExt cx="3794040" cy="303120"/>
          </a:xfrm>
        </p:grpSpPr>
        <p:sp>
          <p:nvSpPr>
            <p:cNvPr id="150" name=""/>
            <p:cNvSpPr/>
            <p:nvPr/>
          </p:nvSpPr>
          <p:spPr>
            <a:xfrm>
              <a:off x="1612800" y="5422680"/>
              <a:ext cx="3794040" cy="1800"/>
            </a:xfrm>
            <a:prstGeom prst="line">
              <a:avLst/>
            </a:prstGeom>
            <a:ln w="301680">
              <a:solidFill>
                <a:srgbClr val="808080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 txBox="1"/>
            <p:nvPr/>
          </p:nvSpPr>
          <p:spPr>
            <a:xfrm>
              <a:off x="2184120" y="5286240"/>
              <a:ext cx="2651040" cy="303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3333cc">
                        <a:alpha val="72000"/>
                      </a:srgbClr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5 orders of magnitude</a:t>
              </a:r>
              <a:endParaRPr b="0" lang="en-US" sz="1800" spc="1" strike="noStrike">
                <a:ln w="12600">
                  <a:solidFill>
                    <a:srgbClr val="3333cc">
                      <a:alpha val="72000"/>
                    </a:srgbClr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152" name=""/>
          <p:cNvSpPr/>
          <p:nvPr/>
        </p:nvSpPr>
        <p:spPr>
          <a:xfrm flipV="1">
            <a:off x="1022400" y="1041480"/>
            <a:ext cx="4767120" cy="4403520"/>
          </a:xfrm>
          <a:prstGeom prst="line">
            <a:avLst/>
          </a:prstGeom>
          <a:ln w="698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2761920" y="3886200"/>
            <a:ext cx="2038680" cy="368280"/>
            <a:chOff x="2761920" y="3886200"/>
            <a:chExt cx="2038680" cy="368280"/>
          </a:xfrm>
        </p:grpSpPr>
        <p:sp>
          <p:nvSpPr>
            <p:cNvPr id="154" name=""/>
            <p:cNvSpPr/>
            <p:nvPr/>
          </p:nvSpPr>
          <p:spPr>
            <a:xfrm>
              <a:off x="3416400" y="4000680"/>
              <a:ext cx="1384200" cy="2538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lope = 0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 flipV="1">
              <a:off x="2761920" y="3886200"/>
              <a:ext cx="654120" cy="241200"/>
            </a:xfrm>
            <a:prstGeom prst="line">
              <a:avLst/>
            </a:prstGeom>
            <a:ln w="22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5918040" y="876240"/>
            <a:ext cx="3073680" cy="5709960"/>
            <a:chOff x="5918040" y="876240"/>
            <a:chExt cx="3073680" cy="5709960"/>
          </a:xfrm>
        </p:grpSpPr>
        <p:sp>
          <p:nvSpPr>
            <p:cNvPr id="157" name=""/>
            <p:cNvSpPr/>
            <p:nvPr/>
          </p:nvSpPr>
          <p:spPr>
            <a:xfrm>
              <a:off x="6108840" y="876240"/>
              <a:ext cx="2882880" cy="570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HETE results confirm &amp; extend the Amati et al. (2002) rel’n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E</a:t>
              </a:r>
              <a:r>
                <a:rPr b="0" lang="en-US" sz="2400" spc="-1" strike="noStrike" baseline="-25000">
                  <a:solidFill>
                    <a:srgbClr val="0000ff"/>
                  </a:solidFill>
                  <a:latin typeface="Arial"/>
                </a:rPr>
                <a:t>peak</a:t>
              </a: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 ~ {E</a:t>
              </a:r>
              <a:r>
                <a:rPr b="0" lang="en-US" sz="2400" spc="-1" strike="noStrike" baseline="-25000">
                  <a:solidFill>
                    <a:srgbClr val="0000ff"/>
                  </a:solidFill>
                  <a:latin typeface="Arial"/>
                </a:rPr>
                <a:t>iso</a:t>
              </a: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} </a:t>
              </a:r>
              <a:r>
                <a:rPr b="0" lang="en-US" sz="2400" spc="-1" strike="noStrike" baseline="30000">
                  <a:solidFill>
                    <a:srgbClr val="0000ff"/>
                  </a:solidFill>
                  <a:latin typeface="Arial"/>
                </a:rPr>
                <a:t>0.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 u="sng">
                  <a:solidFill>
                    <a:srgbClr val="0000ff"/>
                  </a:solidFill>
                  <a:uFillTx/>
                  <a:latin typeface="Arial"/>
                </a:rPr>
                <a:t>GRB spectra</a:t>
              </a:r>
              <a:r>
                <a:rPr b="0" lang="en-US" sz="2400" spc="-1" strike="noStrike" u="sng">
                  <a:solidFill>
                    <a:srgbClr val="0000ff"/>
                  </a:solidFill>
                  <a:uFillTx/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can provide an empirical, predictive </a:t>
              </a:r>
              <a:r>
                <a:rPr b="0" i="1" lang="en-US" sz="2400" spc="-1" strike="noStrike" u="sng">
                  <a:solidFill>
                    <a:srgbClr val="0000ff"/>
                  </a:solidFill>
                  <a:uFillTx/>
                  <a:latin typeface="Arial"/>
                </a:rPr>
                <a:t>redshift estimator</a:t>
              </a: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 that is accurate to a factor of ~2 (Atteia 2003); indicated GRB031026 had z~14, but no optical counterpart found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918040" y="3479760"/>
              <a:ext cx="266760" cy="3556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ole astrparticule OH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RB - 13/09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rompt emi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ccess to source dynam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ignature of prompt and reverse sh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Ground observations give extended spectrum (e.g. synchroton peak vs. ti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volution of light curve GRB vs. 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bsolute need of more detaille OT l.c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ransition from prompt to A/G: tomography of material surrounding GR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hen does the afterglow start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larization of GRB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ifference in arrival time between HE GRB and OT may probe quantum gra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utrinos (k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c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vitational radiation (VIRGO, LIGO), prompt VHE (Milagr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ole astrparticule OH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RB - 13/09/07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eeds for prompt and early afterglow emission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bservation of prompt emission A/G trans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pid observation (starts during GR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 moving (telescop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omp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notification (spacecraf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de fov (errors on early localiz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FT will start UVOT observation after 1-2 m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rt GRB A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st sampling of light cur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ison with high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” tele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ead time (rapid CCD/detecto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troscopy / Filters / IR to optical co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s more detailed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of telescopes (e.g. TAROT+REM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 of afterglow vs. prompt e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larizatio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tral evolutio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499000" y="1600200"/>
            <a:ext cx="2336760" cy="21859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4894200" y="3938760"/>
            <a:ext cx="3544920" cy="2187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ole astrparticule OH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RB - 13/09/07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everal experi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Rapid / less rapid telesco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Robotic / less robo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izes between 10 (ROTSE I) and 90cm </a:t>
            </a:r>
            <a:r>
              <a:rPr b="0" lang="fr-FR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8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Only two IR instrument(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RIKEN (20c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okyo (20-30c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AO (50 + 9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ROTSE (network of 45c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UPERLOTIS (60c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RAPTOR (10+25c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urope (including Chi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AROT (soon network of 25c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REM (60c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-Shooter (VLT 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 15-30m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stral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TSE 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SAT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early dete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mps and wigg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freshed shock? Two jets? ISM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rk GR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ppoSAX: 6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TE: 1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w (if any) dark GR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bably many faint GR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ed rapid AND deep observ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e: are they too few “dark GRBs” (HETE results)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obscuration in molecular clou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ed consistent follow-up (cross calibr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324000" y="1773360"/>
            <a:ext cx="6119640" cy="4535280"/>
            <a:chOff x="324000" y="1773360"/>
            <a:chExt cx="6119640" cy="4535280"/>
          </a:xfrm>
        </p:grpSpPr>
        <p:sp>
          <p:nvSpPr>
            <p:cNvPr id="169" name=""/>
            <p:cNvSpPr/>
            <p:nvPr/>
          </p:nvSpPr>
          <p:spPr>
            <a:xfrm>
              <a:off x="4427640" y="1773360"/>
              <a:ext cx="2016000" cy="1439640"/>
            </a:xfrm>
            <a:prstGeom prst="cloudCallout">
              <a:avLst>
                <a:gd name="adj1" fmla="val -86851"/>
                <a:gd name="adj2" fmla="val 6687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dicated instruments onl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24000" y="3141720"/>
              <a:ext cx="4103640" cy="31669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ole astrparticule OHP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RB - 13/09/07</a:t>
            </a: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ARO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 flipV="1">
            <a:off x="6012000" y="3284280"/>
            <a:ext cx="2232000" cy="1368360"/>
          </a:xfrm>
          <a:prstGeom prst="line">
            <a:avLst/>
          </a:prstGeom>
          <a:ln w="1908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4356000" y="2182680"/>
            <a:ext cx="4330800" cy="314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ole astrparticule OH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RB - 13/09/07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"/>
          <p:cNvGraphicFramePr/>
          <p:nvPr/>
        </p:nvGraphicFramePr>
        <p:xfrm>
          <a:off x="468360" y="730080"/>
          <a:ext cx="4038480" cy="515160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er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/3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ing 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 sec. (60 °/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le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 to 120°/s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miting magnitu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= 17 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0 sec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, V &gt; 20 over 30m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CD Device</a:t>
                      </a:r>
                      <a:r>
                        <a:rPr b="0" lang="fr-FR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V 42-40 (thinne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CD 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48 x 2048 (3 x 3 c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ng CCD tempera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75°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out spe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– 3 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out noi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e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@ 1Mz – 3 e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 100kH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of vie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degr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s (3.6 arcsec/pixe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apid: reaction time dominated by S/C al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Wide fov: accomodate BATSE (mosaic), HETE, SWIFT, INTEGRAL, AGILE, GLAST, 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imit: Mag. 17 in 10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NDOR EEV BI camera (42-4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869440" y="54936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R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ole astrparticule OH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RB - 13/09/07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eneral presentation of GR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Ground vs.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fterglow: physics of GR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fterglow: Cosmology with GR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Ground (with space) future prosp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ole astrparticule OH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RB - 13/09/07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3564000" y="2060640"/>
            <a:ext cx="5832360" cy="381456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AROT observ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275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1999: start full operations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or BATSE mosaic observations had to be perform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3 INTEGRAL al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9 HETE alerts, 6 corresponding to GR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1 short hard (GRB 03053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GRB 030324 &amp; GRB 030501: TAROT observations start while GRB a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o f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alern (since 9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41 ale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8 counterparts det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10 GRB sources observed during prompt e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f which 3 OT dete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hile (since 10/0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12 ale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1 counterpart det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2 GRB sources observed during prompt e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o OT det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753720" y="5659560"/>
            <a:ext cx="276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*Final position in TAROT 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* *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Rapid (&lt;60s) notif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92360" y="2997360"/>
            <a:ext cx="5688000" cy="115236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UTOMATIC MAILS WITH POSITIO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RANSIENT / VARIABLE 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ole astrparticule OH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RB - 13/09/07</a:t>
            </a: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AROT, astronomy while you slee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3916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AROT gets you up in the middle of the n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xample: yesterday, 02:37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5651640" y="27082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513000" y="3357720"/>
            <a:ext cx="772308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oer, M. and Klotz, A., on behalf of a larger coordination communica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ollowing an alert SWIFT GRB070913 (received at 00:37:02 UT) TAROT La Silla observatory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hile observed the fiel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andidate list will be send later if found. Se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ndividual images : </a:t>
            </a:r>
            <a:r>
              <a:rPr b="0" lang="fr-FR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195.221.212.76/ros/GRB070913_003702_SWI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um of images </a:t>
            </a:r>
            <a:r>
              <a:rPr b="0" lang="fr-FR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195.221.212.76/ros/GRB070913_003702_SWIFT/sum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ifferential photometry </a:t>
            </a:r>
            <a:r>
              <a:rPr b="0" lang="fr-FR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195.221.212.76/ros/GRB070913_003702_SWIFT/photometry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GRB parameters are in </a:t>
            </a:r>
            <a:r>
              <a:rPr b="0" lang="fr-FR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195.221.212.76/ros/GRB070913_003702_SWIFT.t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ole astrparticule OH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RB - 13/09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1" dur="1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592920" y="549360"/>
            <a:ext cx="82000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ITLE:   GCN CIR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UMBER:  67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UBJECT: GRB 070913: TAROT La Silla observatory optical observ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ATE:    07/09/13 01:23:01 G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ROM:    Alain Klotz at CESR-CNRS  &lt;Alain.Klotz@free.f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Klotz, A. (CESR-OMP), Boer M. (OHP), Atteia J.L. (LATT-OMP) repor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We imaged the field of GRB 070913 detected by SWIFT (trigger 290843) with the TAROT robotic telescope (D=25cm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ted at the European Southern Observatory, La Silla observatory, Ch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he observations started 87.3s after the GRB trigger (69.4s after the notice). The elevation of the field decreas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rom 35 degrees above horizon and weather conditions were g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he date of trigger : t0 = 2007-09-13T00:36:44.0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he first image is 30.0s exposure in tracking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We do not detect any OT with a limiting magnitude of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0+87.3s to t0+117.3s : R &gt; 17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We co-added a series of exposur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0+123.6s to t0+576.5s : R &gt; 18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urther observations are in progr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agnitudes were estimated with the nearby USNO-B1 stars and are not corrected for galactic dust extin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.B. Galactic coordinates are lon=340.2109 lat=+27.9232 and the galactic extinction in R band is 0.4 magnitu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stimated from D. Schlegel et al. 1998ApJ...500..525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his message may be ci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ole astrparticule OH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RB - 13/09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presentation of GRBs and rough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Ground vs.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Afterglow: physics of GR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fterglow: Cosmology with GR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Ground (with space) future prosp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ole astrparticule OH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RB - 13/09/07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WIFT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une nouvelle vue sur les GRB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1332000" y="1773360"/>
            <a:ext cx="6624720" cy="426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ole astrparticule OH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RB - 13/09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und vs. Space (examp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3961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ison of X-ray afterg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caling at a common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classes of GR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uminosity for X-ray A/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s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ossible to see it in visible because of interstellar absor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4067280" y="1700280"/>
            <a:ext cx="4906800" cy="36766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6304320" y="5516640"/>
            <a:ext cx="256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ër and Gendre 2000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dre and Boër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ole astrparticule OH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RB - 13/09/07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B 030329 = SN 2003d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volution of the GRB 03029/SN 2003dh spectrum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rom 2.64 9.64 days after the burs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arly spectra consist: power-law continuum (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~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0.9) with narrow emission 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H II regions in the host galaxy (z=0.168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fter April 5 development of broad peaks characteristic of a supernov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(Staneck et al., 200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ole astrparticule OH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RB - 13/09/07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ong vs. short GR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1258920" y="1341360"/>
            <a:ext cx="6913440" cy="4722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ole astrparticule OH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RB - 13/09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presentation of GRBs and rough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Ground vs.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fterglow: physics of GR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Afterglow: Cosmology with GR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Ground (with space) future prosp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ole astrparticule OH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RB - 13/09/07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’APPORT DE SWIF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925880" y="1600200"/>
            <a:ext cx="3483000" cy="21859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395280" y="2016000"/>
            <a:ext cx="3960720" cy="36640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5289120" y="6093000"/>
            <a:ext cx="26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wift: GRB duration in source fra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572000" y="3933720"/>
            <a:ext cx="4038480" cy="218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ole astrparticule OH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RB - 13/09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overed fortuitous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First observed in 196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ELA military satell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onitoring of atmospheric nuclear explosions, to enforce application of the nuclear test-ban treaty between USA and US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classified in 197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ince then, many space experi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SSR/Russia – USA – France - Ita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ole astrparticule OH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RB - 13/09/07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-36360" y="6524640"/>
            <a:ext cx="921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55640" y="1916280"/>
            <a:ext cx="6985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451640" y="17002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Redsh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24000" y="4359240"/>
            <a:ext cx="69847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308720" y="41418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55640" y="177336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979640" y="177336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35280" y="177336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084720" y="177336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308720" y="177336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55640" y="421488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979640" y="421488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635280" y="421488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084720" y="421488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308720" y="421488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9640" y="1413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476360" y="141300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~ 3-7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987640" y="1413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~ 10-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653080" y="1413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877080" y="1341360"/>
            <a:ext cx="86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093080" y="45673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81080" y="457524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13,7 Gy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332000" y="4567320"/>
            <a:ext cx="12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~ 1-2 Gy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843280" y="456732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~ 250 My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219640" y="45673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~ 500 000 y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-36360" y="2205000"/>
            <a:ext cx="2016000" cy="4325400"/>
            <a:chOff x="-36360" y="2205000"/>
            <a:chExt cx="2016000" cy="4325400"/>
          </a:xfrm>
        </p:grpSpPr>
        <p:sp>
          <p:nvSpPr>
            <p:cNvPr id="233" name=""/>
            <p:cNvSpPr/>
            <p:nvPr/>
          </p:nvSpPr>
          <p:spPr>
            <a:xfrm>
              <a:off x="179280" y="2205000"/>
              <a:ext cx="1079640" cy="107964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rot="18007800">
              <a:off x="1006200" y="2889000"/>
              <a:ext cx="287280" cy="71280"/>
            </a:xfrm>
            <a:prstGeom prst="ellipse">
              <a:avLst/>
            </a:prstGeom>
            <a:solidFill>
              <a:srgbClr val="080808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162720" y="2450520"/>
              <a:ext cx="467280" cy="519480"/>
              <a:chOff x="162720" y="2450520"/>
              <a:chExt cx="467280" cy="519480"/>
            </a:xfrm>
          </p:grpSpPr>
          <p:sp>
            <p:nvSpPr>
              <p:cNvPr id="236" name=""/>
              <p:cNvSpPr/>
              <p:nvPr/>
            </p:nvSpPr>
            <p:spPr>
              <a:xfrm>
                <a:off x="323640" y="2638080"/>
                <a:ext cx="145080" cy="145080"/>
              </a:xfrm>
              <a:prstGeom prst="ellipse">
                <a:avLst/>
              </a:prstGeom>
              <a:solidFill>
                <a:srgbClr val="080808"/>
              </a:solidFill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79640" y="2565360"/>
                <a:ext cx="288000" cy="28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H="1" flipV="1">
                <a:off x="323640" y="2564640"/>
                <a:ext cx="288000" cy="28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9" name=""/>
              <p:cNvGrpSpPr/>
              <p:nvPr/>
            </p:nvGrpSpPr>
            <p:grpSpPr>
              <a:xfrm>
                <a:off x="162720" y="2450520"/>
                <a:ext cx="467280" cy="518760"/>
                <a:chOff x="162720" y="2450520"/>
                <a:chExt cx="467280" cy="518760"/>
              </a:xfrm>
            </p:grpSpPr>
            <p:sp>
              <p:nvSpPr>
                <p:cNvPr id="240" name=""/>
                <p:cNvSpPr/>
                <p:nvPr/>
              </p:nvSpPr>
              <p:spPr>
                <a:xfrm rot="3600000">
                  <a:off x="216000" y="2502720"/>
                  <a:ext cx="288000" cy="289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808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flipH="1" flipV="1" rot="3600000">
                  <a:off x="288000" y="2626920"/>
                  <a:ext cx="288000" cy="289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808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163080" y="2450880"/>
                <a:ext cx="466560" cy="519120"/>
                <a:chOff x="163080" y="2450880"/>
                <a:chExt cx="466560" cy="519120"/>
              </a:xfrm>
            </p:grpSpPr>
            <p:sp>
              <p:nvSpPr>
                <p:cNvPr id="243" name=""/>
                <p:cNvSpPr/>
                <p:nvPr/>
              </p:nvSpPr>
              <p:spPr>
                <a:xfrm rot="7200000">
                  <a:off x="288000" y="2502720"/>
                  <a:ext cx="288000" cy="289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808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 flipH="1" flipV="1" rot="7200000">
                  <a:off x="216000" y="2627640"/>
                  <a:ext cx="288000" cy="289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808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"/>
            <p:cNvGrpSpPr/>
            <p:nvPr/>
          </p:nvGrpSpPr>
          <p:grpSpPr>
            <a:xfrm>
              <a:off x="426240" y="2882160"/>
              <a:ext cx="114840" cy="158400"/>
              <a:chOff x="426240" y="2882160"/>
              <a:chExt cx="114840" cy="158400"/>
            </a:xfrm>
          </p:grpSpPr>
          <p:sp>
            <p:nvSpPr>
              <p:cNvPr id="246" name=""/>
              <p:cNvSpPr/>
              <p:nvPr/>
            </p:nvSpPr>
            <p:spPr>
              <a:xfrm rot="7436400">
                <a:off x="393840" y="2952360"/>
                <a:ext cx="179280" cy="17640"/>
              </a:xfrm>
              <a:prstGeom prst="ellipse">
                <a:avLst/>
              </a:prstGeom>
              <a:solidFill>
                <a:srgbClr val="080808"/>
              </a:solidFill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7436400">
                <a:off x="447480" y="2925360"/>
                <a:ext cx="71640" cy="71280"/>
              </a:xfrm>
              <a:prstGeom prst="ellipse">
                <a:avLst/>
              </a:prstGeom>
              <a:solidFill>
                <a:srgbClr val="080808"/>
              </a:solidFill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-36360" y="3357720"/>
              <a:ext cx="136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Now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55640" y="5084640"/>
              <a:ext cx="1224000" cy="1224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55640" y="5157720"/>
              <a:ext cx="122400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80808"/>
                  </a:solidFill>
                  <a:latin typeface="Comic Sans MS"/>
                </a:rPr>
                <a:t>Observable universe with present day telescop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2340000" y="2205000"/>
            <a:ext cx="2160720" cy="1733400"/>
            <a:chOff x="2340000" y="2205000"/>
            <a:chExt cx="2160720" cy="1733400"/>
          </a:xfrm>
        </p:grpSpPr>
        <p:sp>
          <p:nvSpPr>
            <p:cNvPr id="252" name=""/>
            <p:cNvSpPr/>
            <p:nvPr/>
          </p:nvSpPr>
          <p:spPr>
            <a:xfrm>
              <a:off x="2987640" y="2205000"/>
              <a:ext cx="1079640" cy="1079640"/>
            </a:xfrm>
            <a:prstGeom prst="cube">
              <a:avLst>
                <a:gd name="adj" fmla="val 25000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348000" y="2708280"/>
              <a:ext cx="576360" cy="504720"/>
            </a:xfrm>
            <a:custGeom>
              <a:avLst/>
              <a:gdLst/>
              <a:ahLst/>
              <a:rect l="l" t="t" r="r" b="b"/>
              <a:pathLst>
                <a:path w="363" h="318">
                  <a:moveTo>
                    <a:pt x="45" y="318"/>
                  </a:moveTo>
                  <a:lnTo>
                    <a:pt x="0" y="273"/>
                  </a:lnTo>
                  <a:lnTo>
                    <a:pt x="0" y="182"/>
                  </a:lnTo>
                  <a:lnTo>
                    <a:pt x="45" y="91"/>
                  </a:lnTo>
                  <a:lnTo>
                    <a:pt x="136" y="46"/>
                  </a:lnTo>
                  <a:lnTo>
                    <a:pt x="227" y="46"/>
                  </a:lnTo>
                  <a:lnTo>
                    <a:pt x="272" y="0"/>
                  </a:lnTo>
                  <a:lnTo>
                    <a:pt x="363" y="0"/>
                  </a:lnTo>
                  <a:lnTo>
                    <a:pt x="363" y="91"/>
                  </a:lnTo>
                  <a:lnTo>
                    <a:pt x="363" y="182"/>
                  </a:lnTo>
                  <a:lnTo>
                    <a:pt x="317" y="227"/>
                  </a:lnTo>
                  <a:lnTo>
                    <a:pt x="272" y="273"/>
                  </a:lnTo>
                  <a:lnTo>
                    <a:pt x="227" y="318"/>
                  </a:lnTo>
                  <a:lnTo>
                    <a:pt x="136" y="318"/>
                  </a:lnTo>
                  <a:lnTo>
                    <a:pt x="45" y="31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000240" y="2349360"/>
              <a:ext cx="505080" cy="574920"/>
            </a:xfrm>
            <a:custGeom>
              <a:avLst/>
              <a:gdLst/>
              <a:ahLst/>
              <a:rect l="l" t="t" r="r" b="b"/>
              <a:pathLst>
                <a:path w="318" h="362">
                  <a:moveTo>
                    <a:pt x="0" y="317"/>
                  </a:moveTo>
                  <a:lnTo>
                    <a:pt x="91" y="362"/>
                  </a:lnTo>
                  <a:lnTo>
                    <a:pt x="182" y="362"/>
                  </a:lnTo>
                  <a:lnTo>
                    <a:pt x="227" y="317"/>
                  </a:lnTo>
                  <a:lnTo>
                    <a:pt x="272" y="272"/>
                  </a:lnTo>
                  <a:lnTo>
                    <a:pt x="318" y="181"/>
                  </a:lnTo>
                  <a:lnTo>
                    <a:pt x="272" y="136"/>
                  </a:lnTo>
                  <a:lnTo>
                    <a:pt x="227" y="90"/>
                  </a:lnTo>
                  <a:lnTo>
                    <a:pt x="182" y="0"/>
                  </a:lnTo>
                  <a:lnTo>
                    <a:pt x="136" y="0"/>
                  </a:lnTo>
                  <a:lnTo>
                    <a:pt x="45" y="45"/>
                  </a:lnTo>
                  <a:lnTo>
                    <a:pt x="0" y="90"/>
                  </a:lnTo>
                  <a:lnTo>
                    <a:pt x="0" y="226"/>
                  </a:lnTo>
                  <a:lnTo>
                    <a:pt x="0" y="31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2987280" y="2502360"/>
              <a:ext cx="392400" cy="339480"/>
              <a:chOff x="2987280" y="2502360"/>
              <a:chExt cx="392400" cy="339480"/>
            </a:xfrm>
          </p:grpSpPr>
          <p:sp>
            <p:nvSpPr>
              <p:cNvPr id="256" name=""/>
              <p:cNvSpPr/>
              <p:nvPr/>
            </p:nvSpPr>
            <p:spPr>
              <a:xfrm>
                <a:off x="3164040" y="2653200"/>
                <a:ext cx="38520" cy="38880"/>
              </a:xfrm>
              <a:prstGeom prst="ellipse">
                <a:avLst/>
              </a:prstGeom>
              <a:noFill/>
              <a:ln w="1260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223080" y="2673000"/>
                <a:ext cx="156600" cy="0"/>
              </a:xfrm>
              <a:prstGeom prst="line">
                <a:avLst/>
              </a:prstGeom>
              <a:ln w="12600">
                <a:solidFill>
                  <a:srgbClr val="08080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>
                <a:off x="2987280" y="2673000"/>
                <a:ext cx="156600" cy="0"/>
              </a:xfrm>
              <a:prstGeom prst="line">
                <a:avLst/>
              </a:prstGeom>
              <a:ln w="12600">
                <a:solidFill>
                  <a:srgbClr val="08080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203280" y="2706120"/>
                <a:ext cx="78120" cy="135720"/>
              </a:xfrm>
              <a:prstGeom prst="line">
                <a:avLst/>
              </a:prstGeom>
              <a:ln w="12600">
                <a:solidFill>
                  <a:srgbClr val="08080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 flipV="1">
                <a:off x="3085200" y="2502360"/>
                <a:ext cx="78480" cy="135720"/>
              </a:xfrm>
              <a:prstGeom prst="line">
                <a:avLst/>
              </a:prstGeom>
              <a:ln w="12600">
                <a:solidFill>
                  <a:srgbClr val="08080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H="1">
                <a:off x="3085920" y="2706120"/>
                <a:ext cx="78480" cy="135720"/>
              </a:xfrm>
              <a:prstGeom prst="line">
                <a:avLst/>
              </a:prstGeom>
              <a:ln w="12600">
                <a:solidFill>
                  <a:srgbClr val="08080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V="1">
                <a:off x="3204000" y="2502360"/>
                <a:ext cx="78120" cy="135720"/>
              </a:xfrm>
              <a:prstGeom prst="line">
                <a:avLst/>
              </a:prstGeom>
              <a:ln w="12600">
                <a:solidFill>
                  <a:srgbClr val="08080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3387600" y="2862720"/>
              <a:ext cx="392040" cy="339480"/>
              <a:chOff x="3387600" y="2862720"/>
              <a:chExt cx="392040" cy="339480"/>
            </a:xfrm>
          </p:grpSpPr>
          <p:sp>
            <p:nvSpPr>
              <p:cNvPr id="264" name=""/>
              <p:cNvSpPr/>
              <p:nvPr/>
            </p:nvSpPr>
            <p:spPr>
              <a:xfrm>
                <a:off x="3564360" y="3013560"/>
                <a:ext cx="38880" cy="38880"/>
              </a:xfrm>
              <a:prstGeom prst="ellipse">
                <a:avLst/>
              </a:prstGeom>
              <a:noFill/>
              <a:ln w="1260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623040" y="3033360"/>
                <a:ext cx="156600" cy="0"/>
              </a:xfrm>
              <a:prstGeom prst="line">
                <a:avLst/>
              </a:prstGeom>
              <a:ln w="12600">
                <a:solidFill>
                  <a:srgbClr val="08080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>
                <a:off x="3387600" y="3033360"/>
                <a:ext cx="156960" cy="0"/>
              </a:xfrm>
              <a:prstGeom prst="line">
                <a:avLst/>
              </a:prstGeom>
              <a:ln w="12600">
                <a:solidFill>
                  <a:srgbClr val="08080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603240" y="3066480"/>
                <a:ext cx="78120" cy="135720"/>
              </a:xfrm>
              <a:prstGeom prst="line">
                <a:avLst/>
              </a:prstGeom>
              <a:ln w="12600">
                <a:solidFill>
                  <a:srgbClr val="08080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 flipV="1">
                <a:off x="3485160" y="2862720"/>
                <a:ext cx="78480" cy="135720"/>
              </a:xfrm>
              <a:prstGeom prst="line">
                <a:avLst/>
              </a:prstGeom>
              <a:ln w="12600">
                <a:solidFill>
                  <a:srgbClr val="08080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3486240" y="3066480"/>
                <a:ext cx="78480" cy="135720"/>
              </a:xfrm>
              <a:prstGeom prst="line">
                <a:avLst/>
              </a:prstGeom>
              <a:ln w="12600">
                <a:solidFill>
                  <a:srgbClr val="08080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V="1">
                <a:off x="3604320" y="2862720"/>
                <a:ext cx="78120" cy="135720"/>
              </a:xfrm>
              <a:prstGeom prst="line">
                <a:avLst/>
              </a:prstGeom>
              <a:ln w="12600">
                <a:solidFill>
                  <a:srgbClr val="08080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>
              <a:off x="3564000" y="2276640"/>
              <a:ext cx="431640" cy="360360"/>
            </a:xfrm>
            <a:custGeom>
              <a:avLst/>
              <a:gdLst/>
              <a:ahLst/>
              <a:rect l="l" t="t" r="r" b="b"/>
              <a:pathLst>
                <a:path w="272" h="227">
                  <a:moveTo>
                    <a:pt x="45" y="46"/>
                  </a:moveTo>
                  <a:lnTo>
                    <a:pt x="0" y="91"/>
                  </a:lnTo>
                  <a:lnTo>
                    <a:pt x="45" y="182"/>
                  </a:lnTo>
                  <a:lnTo>
                    <a:pt x="91" y="227"/>
                  </a:lnTo>
                  <a:lnTo>
                    <a:pt x="136" y="182"/>
                  </a:lnTo>
                  <a:lnTo>
                    <a:pt x="181" y="136"/>
                  </a:lnTo>
                  <a:lnTo>
                    <a:pt x="227" y="136"/>
                  </a:lnTo>
                  <a:lnTo>
                    <a:pt x="272" y="91"/>
                  </a:lnTo>
                  <a:lnTo>
                    <a:pt x="181" y="46"/>
                  </a:lnTo>
                  <a:lnTo>
                    <a:pt x="136" y="0"/>
                  </a:lnTo>
                  <a:lnTo>
                    <a:pt x="45" y="4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987640" y="2205000"/>
              <a:ext cx="1079640" cy="1079640"/>
            </a:xfrm>
            <a:prstGeom prst="cube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340000" y="3357720"/>
              <a:ext cx="216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Reionisation(s)</a:t>
              </a:r>
              <a:br>
                <a:rPr sz="1600"/>
              </a:b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(first stars ?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1187280" y="2205000"/>
            <a:ext cx="2448000" cy="4103640"/>
            <a:chOff x="1187280" y="2205000"/>
            <a:chExt cx="2448000" cy="4103640"/>
          </a:xfrm>
        </p:grpSpPr>
        <p:sp>
          <p:nvSpPr>
            <p:cNvPr id="275" name=""/>
            <p:cNvSpPr/>
            <p:nvPr/>
          </p:nvSpPr>
          <p:spPr>
            <a:xfrm>
              <a:off x="1403280" y="2205000"/>
              <a:ext cx="1079640" cy="10796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8007800">
              <a:off x="2231640" y="2889000"/>
              <a:ext cx="287280" cy="71280"/>
            </a:xfrm>
            <a:prstGeom prst="ellipse">
              <a:avLst/>
            </a:prstGeom>
            <a:solidFill>
              <a:srgbClr val="080808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1388160" y="2450520"/>
              <a:ext cx="467280" cy="519480"/>
              <a:chOff x="1388160" y="2450520"/>
              <a:chExt cx="467280" cy="519480"/>
            </a:xfrm>
          </p:grpSpPr>
          <p:sp>
            <p:nvSpPr>
              <p:cNvPr id="278" name=""/>
              <p:cNvSpPr/>
              <p:nvPr/>
            </p:nvSpPr>
            <p:spPr>
              <a:xfrm>
                <a:off x="1549080" y="2638080"/>
                <a:ext cx="145080" cy="145080"/>
              </a:xfrm>
              <a:prstGeom prst="ellipse">
                <a:avLst/>
              </a:prstGeom>
              <a:solidFill>
                <a:srgbClr val="080808"/>
              </a:solidFill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405080" y="2565360"/>
                <a:ext cx="288000" cy="28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 flipV="1">
                <a:off x="1549080" y="2564640"/>
                <a:ext cx="288000" cy="28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1" name=""/>
              <p:cNvGrpSpPr/>
              <p:nvPr/>
            </p:nvGrpSpPr>
            <p:grpSpPr>
              <a:xfrm>
                <a:off x="1388160" y="2450520"/>
                <a:ext cx="467280" cy="518760"/>
                <a:chOff x="1388160" y="2450520"/>
                <a:chExt cx="467280" cy="518760"/>
              </a:xfrm>
            </p:grpSpPr>
            <p:sp>
              <p:nvSpPr>
                <p:cNvPr id="282" name=""/>
                <p:cNvSpPr/>
                <p:nvPr/>
              </p:nvSpPr>
              <p:spPr>
                <a:xfrm rot="3600000">
                  <a:off x="1441440" y="2502720"/>
                  <a:ext cx="288000" cy="289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808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H="1" flipV="1" rot="3600000">
                  <a:off x="1513440" y="2626920"/>
                  <a:ext cx="288000" cy="289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808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1388520" y="2450880"/>
                <a:ext cx="466560" cy="519120"/>
                <a:chOff x="1388520" y="2450880"/>
                <a:chExt cx="466560" cy="519120"/>
              </a:xfrm>
            </p:grpSpPr>
            <p:sp>
              <p:nvSpPr>
                <p:cNvPr id="285" name=""/>
                <p:cNvSpPr/>
                <p:nvPr/>
              </p:nvSpPr>
              <p:spPr>
                <a:xfrm rot="7200000">
                  <a:off x="1513440" y="2502720"/>
                  <a:ext cx="288000" cy="289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808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H="1" flipV="1" rot="7200000">
                  <a:off x="1441440" y="2627640"/>
                  <a:ext cx="288000" cy="289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808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"/>
            <p:cNvGrpSpPr/>
            <p:nvPr/>
          </p:nvGrpSpPr>
          <p:grpSpPr>
            <a:xfrm>
              <a:off x="1840680" y="2544120"/>
              <a:ext cx="349200" cy="186840"/>
              <a:chOff x="1840680" y="2544120"/>
              <a:chExt cx="349200" cy="186840"/>
            </a:xfrm>
          </p:grpSpPr>
          <p:sp>
            <p:nvSpPr>
              <p:cNvPr id="288" name=""/>
              <p:cNvSpPr/>
              <p:nvPr/>
            </p:nvSpPr>
            <p:spPr>
              <a:xfrm rot="1273200">
                <a:off x="1834920" y="2619000"/>
                <a:ext cx="360360" cy="36360"/>
              </a:xfrm>
              <a:prstGeom prst="ellipse">
                <a:avLst/>
              </a:prstGeom>
              <a:solidFill>
                <a:srgbClr val="080808"/>
              </a:solidFill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273200">
                <a:off x="1942920" y="2565000"/>
                <a:ext cx="144360" cy="144360"/>
              </a:xfrm>
              <a:prstGeom prst="ellipse">
                <a:avLst/>
              </a:prstGeom>
              <a:solidFill>
                <a:srgbClr val="080808"/>
              </a:solidFill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1736280" y="2814120"/>
              <a:ext cx="498600" cy="446040"/>
              <a:chOff x="1736280" y="2814120"/>
              <a:chExt cx="498600" cy="446040"/>
            </a:xfrm>
          </p:grpSpPr>
          <p:sp>
            <p:nvSpPr>
              <p:cNvPr id="291" name=""/>
              <p:cNvSpPr/>
              <p:nvPr/>
            </p:nvSpPr>
            <p:spPr>
              <a:xfrm rot="20391600">
                <a:off x="1910880" y="2980800"/>
                <a:ext cx="150480" cy="113400"/>
              </a:xfrm>
              <a:prstGeom prst="ellipse">
                <a:avLst/>
              </a:prstGeom>
              <a:solidFill>
                <a:srgbClr val="080808"/>
              </a:solidFill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20391600">
                <a:off x="1765800" y="2949840"/>
                <a:ext cx="298800" cy="22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H="1" flipV="1" rot="20391600">
                <a:off x="1905840" y="2897640"/>
                <a:ext cx="298800" cy="22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4" name=""/>
              <p:cNvGrpSpPr/>
              <p:nvPr/>
            </p:nvGrpSpPr>
            <p:grpSpPr>
              <a:xfrm>
                <a:off x="1760040" y="2814120"/>
                <a:ext cx="451800" cy="446040"/>
                <a:chOff x="1760040" y="2814120"/>
                <a:chExt cx="451800" cy="446040"/>
              </a:xfrm>
            </p:grpSpPr>
            <p:sp>
              <p:nvSpPr>
                <p:cNvPr id="295" name=""/>
                <p:cNvSpPr/>
                <p:nvPr/>
              </p:nvSpPr>
              <p:spPr>
                <a:xfrm rot="2391600">
                  <a:off x="1830240" y="2850840"/>
                  <a:ext cx="224640" cy="300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808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 flipH="1" flipV="1" rot="2391600">
                  <a:off x="1917000" y="2921760"/>
                  <a:ext cx="224640" cy="300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808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1809360" y="2845800"/>
                <a:ext cx="353520" cy="383400"/>
                <a:chOff x="1809360" y="2845800"/>
                <a:chExt cx="353520" cy="383400"/>
              </a:xfrm>
            </p:grpSpPr>
            <p:sp>
              <p:nvSpPr>
                <p:cNvPr id="298" name=""/>
                <p:cNvSpPr/>
                <p:nvPr/>
              </p:nvSpPr>
              <p:spPr>
                <a:xfrm rot="5991600">
                  <a:off x="1883160" y="2831760"/>
                  <a:ext cx="224640" cy="300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808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 flipH="1" flipV="1" rot="5991600">
                  <a:off x="1863720" y="2942280"/>
                  <a:ext cx="224640" cy="300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808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"/>
            <p:cNvGrpSpPr/>
            <p:nvPr/>
          </p:nvGrpSpPr>
          <p:grpSpPr>
            <a:xfrm>
              <a:off x="1686960" y="2302920"/>
              <a:ext cx="171000" cy="94680"/>
              <a:chOff x="1686960" y="2302920"/>
              <a:chExt cx="171000" cy="94680"/>
            </a:xfrm>
          </p:grpSpPr>
          <p:sp>
            <p:nvSpPr>
              <p:cNvPr id="301" name=""/>
              <p:cNvSpPr/>
              <p:nvPr/>
            </p:nvSpPr>
            <p:spPr>
              <a:xfrm rot="20143800">
                <a:off x="1682640" y="2341080"/>
                <a:ext cx="179640" cy="18000"/>
              </a:xfrm>
              <a:prstGeom prst="ellipse">
                <a:avLst/>
              </a:prstGeom>
              <a:solidFill>
                <a:srgbClr val="080808"/>
              </a:solidFill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20143800">
                <a:off x="1736280" y="2314440"/>
                <a:ext cx="72000" cy="71640"/>
              </a:xfrm>
              <a:prstGeom prst="ellipse">
                <a:avLst/>
              </a:prstGeom>
              <a:solidFill>
                <a:srgbClr val="080808"/>
              </a:solidFill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1651680" y="2882160"/>
              <a:ext cx="114840" cy="158400"/>
              <a:chOff x="1651680" y="2882160"/>
              <a:chExt cx="114840" cy="158400"/>
            </a:xfrm>
          </p:grpSpPr>
          <p:sp>
            <p:nvSpPr>
              <p:cNvPr id="304" name=""/>
              <p:cNvSpPr/>
              <p:nvPr/>
            </p:nvSpPr>
            <p:spPr>
              <a:xfrm rot="7436400">
                <a:off x="1619280" y="2952360"/>
                <a:ext cx="179280" cy="17640"/>
              </a:xfrm>
              <a:prstGeom prst="ellipse">
                <a:avLst/>
              </a:prstGeom>
              <a:solidFill>
                <a:srgbClr val="080808"/>
              </a:solidFill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7436400">
                <a:off x="1672920" y="2925360"/>
                <a:ext cx="71640" cy="71280"/>
              </a:xfrm>
              <a:prstGeom prst="ellipse">
                <a:avLst/>
              </a:prstGeom>
              <a:solidFill>
                <a:srgbClr val="080808"/>
              </a:solidFill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"/>
            <p:cNvSpPr/>
            <p:nvPr/>
          </p:nvSpPr>
          <p:spPr>
            <a:xfrm>
              <a:off x="1187280" y="3357720"/>
              <a:ext cx="1368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Galaxy formation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979640" y="5084640"/>
              <a:ext cx="1655640" cy="1224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195640" y="5222880"/>
              <a:ext cx="12240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80808"/>
                  </a:solidFill>
                  <a:latin typeface="Comic Sans MS"/>
                </a:rPr>
                <a:t>Universe not yet directly observ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5002200" y="2205000"/>
            <a:ext cx="1657440" cy="4103640"/>
            <a:chOff x="5002200" y="2205000"/>
            <a:chExt cx="1657440" cy="4103640"/>
          </a:xfrm>
        </p:grpSpPr>
        <p:sp>
          <p:nvSpPr>
            <p:cNvPr id="310" name=""/>
            <p:cNvSpPr/>
            <p:nvPr/>
          </p:nvSpPr>
          <p:spPr>
            <a:xfrm>
              <a:off x="5437080" y="2205000"/>
              <a:ext cx="1079640" cy="1079640"/>
            </a:xfrm>
            <a:prstGeom prst="cube">
              <a:avLst>
                <a:gd name="adj" fmla="val 25000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583240" y="3141720"/>
              <a:ext cx="71280" cy="71280"/>
            </a:xfrm>
            <a:prstGeom prst="ellipse">
              <a:avLst/>
            </a:prstGeom>
            <a:solidFill>
              <a:srgbClr val="080808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230880" y="2278080"/>
              <a:ext cx="71640" cy="71280"/>
            </a:xfrm>
            <a:prstGeom prst="ellipse">
              <a:avLst/>
            </a:prstGeom>
            <a:solidFill>
              <a:srgbClr val="080808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942160" y="2349360"/>
              <a:ext cx="71280" cy="71640"/>
            </a:xfrm>
            <a:prstGeom prst="ellipse">
              <a:avLst/>
            </a:prstGeom>
            <a:solidFill>
              <a:srgbClr val="080808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13440" y="3141720"/>
              <a:ext cx="71280" cy="71280"/>
            </a:xfrm>
            <a:prstGeom prst="ellipse">
              <a:avLst/>
            </a:prstGeom>
            <a:solidFill>
              <a:srgbClr val="080808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302520" y="2997360"/>
              <a:ext cx="71280" cy="71280"/>
            </a:xfrm>
            <a:prstGeom prst="ellipse">
              <a:avLst/>
            </a:prstGeom>
            <a:solidFill>
              <a:srgbClr val="080808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86520" y="2565360"/>
              <a:ext cx="71280" cy="71640"/>
            </a:xfrm>
            <a:prstGeom prst="ellipse">
              <a:avLst/>
            </a:prstGeom>
            <a:solidFill>
              <a:srgbClr val="080808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373800" y="2421000"/>
              <a:ext cx="71280" cy="71280"/>
            </a:xfrm>
            <a:prstGeom prst="ellipse">
              <a:avLst/>
            </a:prstGeom>
            <a:solidFill>
              <a:srgbClr val="080808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8" name=""/>
            <p:cNvGrpSpPr/>
            <p:nvPr/>
          </p:nvGrpSpPr>
          <p:grpSpPr>
            <a:xfrm>
              <a:off x="5528160" y="2585160"/>
              <a:ext cx="524880" cy="249480"/>
              <a:chOff x="5528160" y="2585160"/>
              <a:chExt cx="524880" cy="249480"/>
            </a:xfrm>
          </p:grpSpPr>
          <p:sp>
            <p:nvSpPr>
              <p:cNvPr id="319" name=""/>
              <p:cNvSpPr/>
              <p:nvPr/>
            </p:nvSpPr>
            <p:spPr>
              <a:xfrm rot="9556200">
                <a:off x="6015240" y="2631240"/>
                <a:ext cx="28440" cy="57240"/>
              </a:xfrm>
              <a:custGeom>
                <a:avLst/>
                <a:gdLst/>
                <a:ahLst/>
                <a:rect l="l" t="t" r="r" b="b"/>
                <a:pathLst>
                  <a:path w="907" h="454">
                    <a:moveTo>
                      <a:pt x="0" y="454"/>
                    </a:moveTo>
                    <a:cubicBezTo>
                      <a:pt x="151" y="227"/>
                      <a:pt x="302" y="0"/>
                      <a:pt x="453" y="0"/>
                    </a:cubicBezTo>
                    <a:cubicBezTo>
                      <a:pt x="604" y="0"/>
                      <a:pt x="809" y="340"/>
                      <a:pt x="907" y="454"/>
                    </a:cubicBezTo>
                  </a:path>
                </a:pathLst>
              </a:custGeom>
              <a:noFill/>
              <a:ln w="1908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V="1" rot="9556200">
                <a:off x="5968440" y="2588040"/>
                <a:ext cx="28440" cy="57240"/>
              </a:xfrm>
              <a:custGeom>
                <a:avLst/>
                <a:gdLst/>
                <a:ahLst/>
                <a:rect l="l" t="t" r="r" b="b"/>
                <a:pathLst>
                  <a:path w="907" h="454">
                    <a:moveTo>
                      <a:pt x="0" y="454"/>
                    </a:moveTo>
                    <a:cubicBezTo>
                      <a:pt x="151" y="227"/>
                      <a:pt x="302" y="0"/>
                      <a:pt x="453" y="0"/>
                    </a:cubicBezTo>
                    <a:cubicBezTo>
                      <a:pt x="604" y="0"/>
                      <a:pt x="809" y="340"/>
                      <a:pt x="907" y="454"/>
                    </a:cubicBezTo>
                  </a:path>
                </a:pathLst>
              </a:custGeom>
              <a:noFill/>
              <a:ln w="1908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9556200">
                <a:off x="5961600" y="2651400"/>
                <a:ext cx="28440" cy="57240"/>
              </a:xfrm>
              <a:custGeom>
                <a:avLst/>
                <a:gdLst/>
                <a:ahLst/>
                <a:rect l="l" t="t" r="r" b="b"/>
                <a:pathLst>
                  <a:path w="907" h="454">
                    <a:moveTo>
                      <a:pt x="0" y="454"/>
                    </a:moveTo>
                    <a:cubicBezTo>
                      <a:pt x="151" y="227"/>
                      <a:pt x="302" y="0"/>
                      <a:pt x="453" y="0"/>
                    </a:cubicBezTo>
                    <a:cubicBezTo>
                      <a:pt x="604" y="0"/>
                      <a:pt x="809" y="340"/>
                      <a:pt x="907" y="454"/>
                    </a:cubicBezTo>
                  </a:path>
                </a:pathLst>
              </a:custGeom>
              <a:noFill/>
              <a:ln w="1908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V="1" rot="9556200">
                <a:off x="5914440" y="2608200"/>
                <a:ext cx="28440" cy="57240"/>
              </a:xfrm>
              <a:custGeom>
                <a:avLst/>
                <a:gdLst/>
                <a:ahLst/>
                <a:rect l="l" t="t" r="r" b="b"/>
                <a:pathLst>
                  <a:path w="907" h="454">
                    <a:moveTo>
                      <a:pt x="0" y="454"/>
                    </a:moveTo>
                    <a:cubicBezTo>
                      <a:pt x="151" y="227"/>
                      <a:pt x="302" y="0"/>
                      <a:pt x="453" y="0"/>
                    </a:cubicBezTo>
                    <a:cubicBezTo>
                      <a:pt x="604" y="0"/>
                      <a:pt x="809" y="340"/>
                      <a:pt x="907" y="454"/>
                    </a:cubicBezTo>
                  </a:path>
                </a:pathLst>
              </a:custGeom>
              <a:noFill/>
              <a:ln w="1908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9556200">
                <a:off x="5907960" y="2671920"/>
                <a:ext cx="28440" cy="57240"/>
              </a:xfrm>
              <a:custGeom>
                <a:avLst/>
                <a:gdLst/>
                <a:ahLst/>
                <a:rect l="l" t="t" r="r" b="b"/>
                <a:pathLst>
                  <a:path w="907" h="454">
                    <a:moveTo>
                      <a:pt x="0" y="454"/>
                    </a:moveTo>
                    <a:cubicBezTo>
                      <a:pt x="151" y="227"/>
                      <a:pt x="302" y="0"/>
                      <a:pt x="453" y="0"/>
                    </a:cubicBezTo>
                    <a:cubicBezTo>
                      <a:pt x="604" y="0"/>
                      <a:pt x="809" y="340"/>
                      <a:pt x="907" y="454"/>
                    </a:cubicBezTo>
                  </a:path>
                </a:pathLst>
              </a:custGeom>
              <a:noFill/>
              <a:ln w="1908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V="1" rot="9556200">
                <a:off x="5860800" y="2628720"/>
                <a:ext cx="28440" cy="57240"/>
              </a:xfrm>
              <a:custGeom>
                <a:avLst/>
                <a:gdLst/>
                <a:ahLst/>
                <a:rect l="l" t="t" r="r" b="b"/>
                <a:pathLst>
                  <a:path w="907" h="454">
                    <a:moveTo>
                      <a:pt x="0" y="454"/>
                    </a:moveTo>
                    <a:cubicBezTo>
                      <a:pt x="151" y="227"/>
                      <a:pt x="302" y="0"/>
                      <a:pt x="453" y="0"/>
                    </a:cubicBezTo>
                    <a:cubicBezTo>
                      <a:pt x="604" y="0"/>
                      <a:pt x="809" y="340"/>
                      <a:pt x="907" y="454"/>
                    </a:cubicBezTo>
                  </a:path>
                </a:pathLst>
              </a:custGeom>
              <a:noFill/>
              <a:ln w="1908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9556200">
                <a:off x="5854320" y="2692080"/>
                <a:ext cx="28440" cy="57240"/>
              </a:xfrm>
              <a:custGeom>
                <a:avLst/>
                <a:gdLst/>
                <a:ahLst/>
                <a:rect l="l" t="t" r="r" b="b"/>
                <a:pathLst>
                  <a:path w="907" h="454">
                    <a:moveTo>
                      <a:pt x="0" y="454"/>
                    </a:moveTo>
                    <a:cubicBezTo>
                      <a:pt x="151" y="227"/>
                      <a:pt x="302" y="0"/>
                      <a:pt x="453" y="0"/>
                    </a:cubicBezTo>
                    <a:cubicBezTo>
                      <a:pt x="604" y="0"/>
                      <a:pt x="809" y="340"/>
                      <a:pt x="907" y="454"/>
                    </a:cubicBezTo>
                  </a:path>
                </a:pathLst>
              </a:custGeom>
              <a:noFill/>
              <a:ln w="1908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V="1" rot="9556200">
                <a:off x="5807160" y="2648880"/>
                <a:ext cx="28440" cy="57240"/>
              </a:xfrm>
              <a:custGeom>
                <a:avLst/>
                <a:gdLst/>
                <a:ahLst/>
                <a:rect l="l" t="t" r="r" b="b"/>
                <a:pathLst>
                  <a:path w="907" h="454">
                    <a:moveTo>
                      <a:pt x="0" y="454"/>
                    </a:moveTo>
                    <a:cubicBezTo>
                      <a:pt x="151" y="227"/>
                      <a:pt x="302" y="0"/>
                      <a:pt x="453" y="0"/>
                    </a:cubicBezTo>
                    <a:cubicBezTo>
                      <a:pt x="604" y="0"/>
                      <a:pt x="809" y="340"/>
                      <a:pt x="907" y="454"/>
                    </a:cubicBezTo>
                  </a:path>
                </a:pathLst>
              </a:custGeom>
              <a:noFill/>
              <a:ln w="1908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9556200">
                <a:off x="5800320" y="2712600"/>
                <a:ext cx="28440" cy="57240"/>
              </a:xfrm>
              <a:custGeom>
                <a:avLst/>
                <a:gdLst/>
                <a:ahLst/>
                <a:rect l="l" t="t" r="r" b="b"/>
                <a:pathLst>
                  <a:path w="907" h="454">
                    <a:moveTo>
                      <a:pt x="0" y="454"/>
                    </a:moveTo>
                    <a:cubicBezTo>
                      <a:pt x="151" y="227"/>
                      <a:pt x="302" y="0"/>
                      <a:pt x="453" y="0"/>
                    </a:cubicBezTo>
                    <a:cubicBezTo>
                      <a:pt x="604" y="0"/>
                      <a:pt x="809" y="340"/>
                      <a:pt x="907" y="454"/>
                    </a:cubicBezTo>
                  </a:path>
                </a:pathLst>
              </a:custGeom>
              <a:noFill/>
              <a:ln w="1908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V="1" rot="9556200">
                <a:off x="5753160" y="2669400"/>
                <a:ext cx="28440" cy="57240"/>
              </a:xfrm>
              <a:custGeom>
                <a:avLst/>
                <a:gdLst/>
                <a:ahLst/>
                <a:rect l="l" t="t" r="r" b="b"/>
                <a:pathLst>
                  <a:path w="907" h="454">
                    <a:moveTo>
                      <a:pt x="0" y="454"/>
                    </a:moveTo>
                    <a:cubicBezTo>
                      <a:pt x="151" y="227"/>
                      <a:pt x="302" y="0"/>
                      <a:pt x="453" y="0"/>
                    </a:cubicBezTo>
                    <a:cubicBezTo>
                      <a:pt x="604" y="0"/>
                      <a:pt x="809" y="340"/>
                      <a:pt x="907" y="454"/>
                    </a:cubicBezTo>
                  </a:path>
                </a:pathLst>
              </a:custGeom>
              <a:noFill/>
              <a:ln w="1908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9556200">
                <a:off x="5746680" y="2733120"/>
                <a:ext cx="28440" cy="57240"/>
              </a:xfrm>
              <a:custGeom>
                <a:avLst/>
                <a:gdLst/>
                <a:ahLst/>
                <a:rect l="l" t="t" r="r" b="b"/>
                <a:pathLst>
                  <a:path w="907" h="454">
                    <a:moveTo>
                      <a:pt x="0" y="454"/>
                    </a:moveTo>
                    <a:cubicBezTo>
                      <a:pt x="151" y="227"/>
                      <a:pt x="302" y="0"/>
                      <a:pt x="453" y="0"/>
                    </a:cubicBezTo>
                    <a:cubicBezTo>
                      <a:pt x="604" y="0"/>
                      <a:pt x="809" y="340"/>
                      <a:pt x="907" y="454"/>
                    </a:cubicBezTo>
                  </a:path>
                </a:pathLst>
              </a:custGeom>
              <a:noFill/>
              <a:ln w="1908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V="1" rot="9556200">
                <a:off x="5699880" y="2689560"/>
                <a:ext cx="28440" cy="57240"/>
              </a:xfrm>
              <a:custGeom>
                <a:avLst/>
                <a:gdLst/>
                <a:ahLst/>
                <a:rect l="l" t="t" r="r" b="b"/>
                <a:pathLst>
                  <a:path w="907" h="454">
                    <a:moveTo>
                      <a:pt x="0" y="454"/>
                    </a:moveTo>
                    <a:cubicBezTo>
                      <a:pt x="151" y="227"/>
                      <a:pt x="302" y="0"/>
                      <a:pt x="453" y="0"/>
                    </a:cubicBezTo>
                    <a:cubicBezTo>
                      <a:pt x="604" y="0"/>
                      <a:pt x="809" y="340"/>
                      <a:pt x="907" y="454"/>
                    </a:cubicBezTo>
                  </a:path>
                </a:pathLst>
              </a:custGeom>
              <a:noFill/>
              <a:ln w="1908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9556200">
                <a:off x="5693040" y="2753280"/>
                <a:ext cx="28440" cy="57240"/>
              </a:xfrm>
              <a:custGeom>
                <a:avLst/>
                <a:gdLst/>
                <a:ahLst/>
                <a:rect l="l" t="t" r="r" b="b"/>
                <a:pathLst>
                  <a:path w="907" h="454">
                    <a:moveTo>
                      <a:pt x="0" y="454"/>
                    </a:moveTo>
                    <a:cubicBezTo>
                      <a:pt x="151" y="227"/>
                      <a:pt x="302" y="0"/>
                      <a:pt x="453" y="0"/>
                    </a:cubicBezTo>
                    <a:cubicBezTo>
                      <a:pt x="604" y="0"/>
                      <a:pt x="809" y="340"/>
                      <a:pt x="907" y="454"/>
                    </a:cubicBezTo>
                  </a:path>
                </a:pathLst>
              </a:custGeom>
              <a:noFill/>
              <a:ln w="1908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V="1" rot="9556200">
                <a:off x="5645880" y="2710080"/>
                <a:ext cx="28440" cy="57240"/>
              </a:xfrm>
              <a:custGeom>
                <a:avLst/>
                <a:gdLst/>
                <a:ahLst/>
                <a:rect l="l" t="t" r="r" b="b"/>
                <a:pathLst>
                  <a:path w="907" h="454">
                    <a:moveTo>
                      <a:pt x="0" y="454"/>
                    </a:moveTo>
                    <a:cubicBezTo>
                      <a:pt x="151" y="227"/>
                      <a:pt x="302" y="0"/>
                      <a:pt x="453" y="0"/>
                    </a:cubicBezTo>
                    <a:cubicBezTo>
                      <a:pt x="604" y="0"/>
                      <a:pt x="809" y="340"/>
                      <a:pt x="907" y="454"/>
                    </a:cubicBezTo>
                  </a:path>
                </a:pathLst>
              </a:custGeom>
              <a:noFill/>
              <a:ln w="1908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rot="9556200">
                <a:off x="5639040" y="2773800"/>
                <a:ext cx="28440" cy="57240"/>
              </a:xfrm>
              <a:custGeom>
                <a:avLst/>
                <a:gdLst/>
                <a:ahLst/>
                <a:rect l="l" t="t" r="r" b="b"/>
                <a:pathLst>
                  <a:path w="907" h="454">
                    <a:moveTo>
                      <a:pt x="0" y="454"/>
                    </a:moveTo>
                    <a:cubicBezTo>
                      <a:pt x="151" y="227"/>
                      <a:pt x="302" y="0"/>
                      <a:pt x="453" y="0"/>
                    </a:cubicBezTo>
                    <a:cubicBezTo>
                      <a:pt x="604" y="0"/>
                      <a:pt x="809" y="340"/>
                      <a:pt x="907" y="454"/>
                    </a:cubicBezTo>
                  </a:path>
                </a:pathLst>
              </a:custGeom>
              <a:noFill/>
              <a:ln w="1908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rot="9556200">
                <a:off x="5563440" y="2730600"/>
                <a:ext cx="57240" cy="62640"/>
              </a:xfrm>
              <a:custGeom>
                <a:avLst/>
                <a:gdLst/>
                <a:ahLst/>
                <a:rect l="l" t="t" r="r" b="b"/>
                <a:pathLst>
                  <a:path w="486" h="496">
                    <a:moveTo>
                      <a:pt x="0" y="6"/>
                    </a:moveTo>
                    <a:cubicBezTo>
                      <a:pt x="41" y="233"/>
                      <a:pt x="85" y="424"/>
                      <a:pt x="122" y="460"/>
                    </a:cubicBezTo>
                    <a:cubicBezTo>
                      <a:pt x="159" y="496"/>
                      <a:pt x="187" y="293"/>
                      <a:pt x="222" y="224"/>
                    </a:cubicBezTo>
                    <a:cubicBezTo>
                      <a:pt x="257" y="155"/>
                      <a:pt x="290" y="85"/>
                      <a:pt x="334" y="48"/>
                    </a:cubicBezTo>
                    <a:cubicBezTo>
                      <a:pt x="378" y="11"/>
                      <a:pt x="454" y="10"/>
                      <a:pt x="486" y="0"/>
                    </a:cubicBezTo>
                  </a:path>
                </a:pathLst>
              </a:custGeom>
              <a:noFill/>
              <a:ln w="1908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H="1">
                <a:off x="5528160" y="2800440"/>
                <a:ext cx="49680" cy="18720"/>
              </a:xfrm>
              <a:prstGeom prst="line">
                <a:avLst/>
              </a:prstGeom>
              <a:ln w="1908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H="1" flipV="1">
                <a:off x="5528160" y="2819520"/>
                <a:ext cx="39960" cy="15120"/>
              </a:xfrm>
              <a:prstGeom prst="line">
                <a:avLst/>
              </a:prstGeom>
              <a:ln w="1908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H="1">
                <a:off x="5528160" y="2781720"/>
                <a:ext cx="19800" cy="37800"/>
              </a:xfrm>
              <a:prstGeom prst="line">
                <a:avLst/>
              </a:prstGeom>
              <a:ln w="1908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6294240" y="2528280"/>
              <a:ext cx="199080" cy="386640"/>
              <a:chOff x="6294240" y="2528280"/>
              <a:chExt cx="199080" cy="386640"/>
            </a:xfrm>
          </p:grpSpPr>
          <p:sp>
            <p:nvSpPr>
              <p:cNvPr id="339" name=""/>
              <p:cNvSpPr/>
              <p:nvPr/>
            </p:nvSpPr>
            <p:spPr>
              <a:xfrm rot="17277600">
                <a:off x="6307200" y="2876040"/>
                <a:ext cx="21600" cy="43560"/>
              </a:xfrm>
              <a:custGeom>
                <a:avLst/>
                <a:gdLst/>
                <a:ahLst/>
                <a:rect l="l" t="t" r="r" b="b"/>
                <a:pathLst>
                  <a:path w="907" h="454">
                    <a:moveTo>
                      <a:pt x="0" y="454"/>
                    </a:moveTo>
                    <a:cubicBezTo>
                      <a:pt x="151" y="227"/>
                      <a:pt x="302" y="0"/>
                      <a:pt x="453" y="0"/>
                    </a:cubicBezTo>
                    <a:cubicBezTo>
                      <a:pt x="604" y="0"/>
                      <a:pt x="809" y="340"/>
                      <a:pt x="907" y="454"/>
                    </a:cubicBezTo>
                  </a:path>
                </a:pathLst>
              </a:custGeom>
              <a:noFill/>
              <a:ln w="1908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V="1" rot="17277000">
                <a:off x="6354720" y="2868840"/>
                <a:ext cx="21600" cy="43560"/>
              </a:xfrm>
              <a:custGeom>
                <a:avLst/>
                <a:gdLst/>
                <a:ahLst/>
                <a:rect l="l" t="t" r="r" b="b"/>
                <a:pathLst>
                  <a:path w="907" h="454">
                    <a:moveTo>
                      <a:pt x="0" y="454"/>
                    </a:moveTo>
                    <a:cubicBezTo>
                      <a:pt x="151" y="227"/>
                      <a:pt x="302" y="0"/>
                      <a:pt x="453" y="0"/>
                    </a:cubicBezTo>
                    <a:cubicBezTo>
                      <a:pt x="604" y="0"/>
                      <a:pt x="809" y="340"/>
                      <a:pt x="907" y="454"/>
                    </a:cubicBezTo>
                  </a:path>
                </a:pathLst>
              </a:custGeom>
              <a:noFill/>
              <a:ln w="1908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17277600">
                <a:off x="6320880" y="2835360"/>
                <a:ext cx="21240" cy="43560"/>
              </a:xfrm>
              <a:custGeom>
                <a:avLst/>
                <a:gdLst/>
                <a:ahLst/>
                <a:rect l="l" t="t" r="r" b="b"/>
                <a:pathLst>
                  <a:path w="907" h="454">
                    <a:moveTo>
                      <a:pt x="0" y="454"/>
                    </a:moveTo>
                    <a:cubicBezTo>
                      <a:pt x="151" y="227"/>
                      <a:pt x="302" y="0"/>
                      <a:pt x="453" y="0"/>
                    </a:cubicBezTo>
                    <a:cubicBezTo>
                      <a:pt x="604" y="0"/>
                      <a:pt x="809" y="340"/>
                      <a:pt x="907" y="454"/>
                    </a:cubicBezTo>
                  </a:path>
                </a:pathLst>
              </a:custGeom>
              <a:noFill/>
              <a:ln w="1908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V="1" rot="17277000">
                <a:off x="6368040" y="2827800"/>
                <a:ext cx="21600" cy="43560"/>
              </a:xfrm>
              <a:custGeom>
                <a:avLst/>
                <a:gdLst/>
                <a:ahLst/>
                <a:rect l="l" t="t" r="r" b="b"/>
                <a:pathLst>
                  <a:path w="907" h="454">
                    <a:moveTo>
                      <a:pt x="0" y="454"/>
                    </a:moveTo>
                    <a:cubicBezTo>
                      <a:pt x="151" y="227"/>
                      <a:pt x="302" y="0"/>
                      <a:pt x="453" y="0"/>
                    </a:cubicBezTo>
                    <a:cubicBezTo>
                      <a:pt x="604" y="0"/>
                      <a:pt x="809" y="340"/>
                      <a:pt x="907" y="454"/>
                    </a:cubicBezTo>
                  </a:path>
                </a:pathLst>
              </a:custGeom>
              <a:noFill/>
              <a:ln w="1908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17277600">
                <a:off x="6333840" y="2793960"/>
                <a:ext cx="21600" cy="43560"/>
              </a:xfrm>
              <a:custGeom>
                <a:avLst/>
                <a:gdLst/>
                <a:ahLst/>
                <a:rect l="l" t="t" r="r" b="b"/>
                <a:pathLst>
                  <a:path w="907" h="454">
                    <a:moveTo>
                      <a:pt x="0" y="454"/>
                    </a:moveTo>
                    <a:cubicBezTo>
                      <a:pt x="151" y="227"/>
                      <a:pt x="302" y="0"/>
                      <a:pt x="453" y="0"/>
                    </a:cubicBezTo>
                    <a:cubicBezTo>
                      <a:pt x="604" y="0"/>
                      <a:pt x="809" y="340"/>
                      <a:pt x="907" y="454"/>
                    </a:cubicBezTo>
                  </a:path>
                </a:pathLst>
              </a:custGeom>
              <a:noFill/>
              <a:ln w="1908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V="1" rot="17277000">
                <a:off x="6381360" y="2786760"/>
                <a:ext cx="21600" cy="43560"/>
              </a:xfrm>
              <a:custGeom>
                <a:avLst/>
                <a:gdLst/>
                <a:ahLst/>
                <a:rect l="l" t="t" r="r" b="b"/>
                <a:pathLst>
                  <a:path w="907" h="454">
                    <a:moveTo>
                      <a:pt x="0" y="454"/>
                    </a:moveTo>
                    <a:cubicBezTo>
                      <a:pt x="151" y="227"/>
                      <a:pt x="302" y="0"/>
                      <a:pt x="453" y="0"/>
                    </a:cubicBezTo>
                    <a:cubicBezTo>
                      <a:pt x="604" y="0"/>
                      <a:pt x="809" y="340"/>
                      <a:pt x="907" y="454"/>
                    </a:cubicBezTo>
                  </a:path>
                </a:pathLst>
              </a:custGeom>
              <a:noFill/>
              <a:ln w="1908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rot="17277600">
                <a:off x="6347520" y="2753280"/>
                <a:ext cx="21240" cy="43560"/>
              </a:xfrm>
              <a:custGeom>
                <a:avLst/>
                <a:gdLst/>
                <a:ahLst/>
                <a:rect l="l" t="t" r="r" b="b"/>
                <a:pathLst>
                  <a:path w="907" h="454">
                    <a:moveTo>
                      <a:pt x="0" y="454"/>
                    </a:moveTo>
                    <a:cubicBezTo>
                      <a:pt x="151" y="227"/>
                      <a:pt x="302" y="0"/>
                      <a:pt x="453" y="0"/>
                    </a:cubicBezTo>
                    <a:cubicBezTo>
                      <a:pt x="604" y="0"/>
                      <a:pt x="809" y="340"/>
                      <a:pt x="907" y="454"/>
                    </a:cubicBezTo>
                  </a:path>
                </a:pathLst>
              </a:custGeom>
              <a:noFill/>
              <a:ln w="1908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V="1" rot="17277000">
                <a:off x="6394680" y="2745720"/>
                <a:ext cx="21600" cy="43560"/>
              </a:xfrm>
              <a:custGeom>
                <a:avLst/>
                <a:gdLst/>
                <a:ahLst/>
                <a:rect l="l" t="t" r="r" b="b"/>
                <a:pathLst>
                  <a:path w="907" h="454">
                    <a:moveTo>
                      <a:pt x="0" y="454"/>
                    </a:moveTo>
                    <a:cubicBezTo>
                      <a:pt x="151" y="227"/>
                      <a:pt x="302" y="0"/>
                      <a:pt x="453" y="0"/>
                    </a:cubicBezTo>
                    <a:cubicBezTo>
                      <a:pt x="604" y="0"/>
                      <a:pt x="809" y="340"/>
                      <a:pt x="907" y="454"/>
                    </a:cubicBezTo>
                  </a:path>
                </a:pathLst>
              </a:custGeom>
              <a:noFill/>
              <a:ln w="1908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rot="17277600">
                <a:off x="6360480" y="2711160"/>
                <a:ext cx="21600" cy="43560"/>
              </a:xfrm>
              <a:custGeom>
                <a:avLst/>
                <a:gdLst/>
                <a:ahLst/>
                <a:rect l="l" t="t" r="r" b="b"/>
                <a:pathLst>
                  <a:path w="907" h="454">
                    <a:moveTo>
                      <a:pt x="0" y="454"/>
                    </a:moveTo>
                    <a:cubicBezTo>
                      <a:pt x="151" y="227"/>
                      <a:pt x="302" y="0"/>
                      <a:pt x="453" y="0"/>
                    </a:cubicBezTo>
                    <a:cubicBezTo>
                      <a:pt x="604" y="0"/>
                      <a:pt x="809" y="340"/>
                      <a:pt x="907" y="454"/>
                    </a:cubicBezTo>
                  </a:path>
                </a:pathLst>
              </a:custGeom>
              <a:noFill/>
              <a:ln w="1908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V="1" rot="17277000">
                <a:off x="6408360" y="2704320"/>
                <a:ext cx="21600" cy="43560"/>
              </a:xfrm>
              <a:custGeom>
                <a:avLst/>
                <a:gdLst/>
                <a:ahLst/>
                <a:rect l="l" t="t" r="r" b="b"/>
                <a:pathLst>
                  <a:path w="907" h="454">
                    <a:moveTo>
                      <a:pt x="0" y="454"/>
                    </a:moveTo>
                    <a:cubicBezTo>
                      <a:pt x="151" y="227"/>
                      <a:pt x="302" y="0"/>
                      <a:pt x="453" y="0"/>
                    </a:cubicBezTo>
                    <a:cubicBezTo>
                      <a:pt x="604" y="0"/>
                      <a:pt x="809" y="340"/>
                      <a:pt x="907" y="454"/>
                    </a:cubicBezTo>
                  </a:path>
                </a:pathLst>
              </a:custGeom>
              <a:noFill/>
              <a:ln w="1908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rot="17277600">
                <a:off x="6374520" y="2670480"/>
                <a:ext cx="21240" cy="43560"/>
              </a:xfrm>
              <a:custGeom>
                <a:avLst/>
                <a:gdLst/>
                <a:ahLst/>
                <a:rect l="l" t="t" r="r" b="b"/>
                <a:pathLst>
                  <a:path w="907" h="454">
                    <a:moveTo>
                      <a:pt x="0" y="454"/>
                    </a:moveTo>
                    <a:cubicBezTo>
                      <a:pt x="151" y="227"/>
                      <a:pt x="302" y="0"/>
                      <a:pt x="453" y="0"/>
                    </a:cubicBezTo>
                    <a:cubicBezTo>
                      <a:pt x="604" y="0"/>
                      <a:pt x="809" y="340"/>
                      <a:pt x="907" y="454"/>
                    </a:cubicBezTo>
                  </a:path>
                </a:pathLst>
              </a:custGeom>
              <a:noFill/>
              <a:ln w="1908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V="1" rot="17277000">
                <a:off x="6421680" y="2662920"/>
                <a:ext cx="21600" cy="43560"/>
              </a:xfrm>
              <a:custGeom>
                <a:avLst/>
                <a:gdLst/>
                <a:ahLst/>
                <a:rect l="l" t="t" r="r" b="b"/>
                <a:pathLst>
                  <a:path w="907" h="454">
                    <a:moveTo>
                      <a:pt x="0" y="454"/>
                    </a:moveTo>
                    <a:cubicBezTo>
                      <a:pt x="151" y="227"/>
                      <a:pt x="302" y="0"/>
                      <a:pt x="453" y="0"/>
                    </a:cubicBezTo>
                    <a:cubicBezTo>
                      <a:pt x="604" y="0"/>
                      <a:pt x="809" y="340"/>
                      <a:pt x="907" y="454"/>
                    </a:cubicBezTo>
                  </a:path>
                </a:pathLst>
              </a:custGeom>
              <a:noFill/>
              <a:ln w="1908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rot="17277600">
                <a:off x="6387480" y="2629080"/>
                <a:ext cx="21600" cy="43560"/>
              </a:xfrm>
              <a:custGeom>
                <a:avLst/>
                <a:gdLst/>
                <a:ahLst/>
                <a:rect l="l" t="t" r="r" b="b"/>
                <a:pathLst>
                  <a:path w="907" h="454">
                    <a:moveTo>
                      <a:pt x="0" y="454"/>
                    </a:moveTo>
                    <a:cubicBezTo>
                      <a:pt x="151" y="227"/>
                      <a:pt x="302" y="0"/>
                      <a:pt x="453" y="0"/>
                    </a:cubicBezTo>
                    <a:cubicBezTo>
                      <a:pt x="604" y="0"/>
                      <a:pt x="809" y="340"/>
                      <a:pt x="907" y="454"/>
                    </a:cubicBezTo>
                  </a:path>
                </a:pathLst>
              </a:custGeom>
              <a:noFill/>
              <a:ln w="1908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V="1" rot="17277000">
                <a:off x="6435000" y="2621880"/>
                <a:ext cx="21600" cy="43560"/>
              </a:xfrm>
              <a:custGeom>
                <a:avLst/>
                <a:gdLst/>
                <a:ahLst/>
                <a:rect l="l" t="t" r="r" b="b"/>
                <a:pathLst>
                  <a:path w="907" h="454">
                    <a:moveTo>
                      <a:pt x="0" y="454"/>
                    </a:moveTo>
                    <a:cubicBezTo>
                      <a:pt x="151" y="227"/>
                      <a:pt x="302" y="0"/>
                      <a:pt x="453" y="0"/>
                    </a:cubicBezTo>
                    <a:cubicBezTo>
                      <a:pt x="604" y="0"/>
                      <a:pt x="809" y="340"/>
                      <a:pt x="907" y="454"/>
                    </a:cubicBezTo>
                  </a:path>
                </a:pathLst>
              </a:custGeom>
              <a:noFill/>
              <a:ln w="1908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rot="17277600">
                <a:off x="6401160" y="2588400"/>
                <a:ext cx="21240" cy="43560"/>
              </a:xfrm>
              <a:custGeom>
                <a:avLst/>
                <a:gdLst/>
                <a:ahLst/>
                <a:rect l="l" t="t" r="r" b="b"/>
                <a:pathLst>
                  <a:path w="907" h="454">
                    <a:moveTo>
                      <a:pt x="0" y="454"/>
                    </a:moveTo>
                    <a:cubicBezTo>
                      <a:pt x="151" y="227"/>
                      <a:pt x="302" y="0"/>
                      <a:pt x="453" y="0"/>
                    </a:cubicBezTo>
                    <a:cubicBezTo>
                      <a:pt x="604" y="0"/>
                      <a:pt x="809" y="340"/>
                      <a:pt x="907" y="454"/>
                    </a:cubicBezTo>
                  </a:path>
                </a:pathLst>
              </a:custGeom>
              <a:noFill/>
              <a:ln w="1908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rot="17277600">
                <a:off x="6442560" y="2569320"/>
                <a:ext cx="42840" cy="47520"/>
              </a:xfrm>
              <a:custGeom>
                <a:avLst/>
                <a:gdLst/>
                <a:ahLst/>
                <a:rect l="l" t="t" r="r" b="b"/>
                <a:pathLst>
                  <a:path w="486" h="496">
                    <a:moveTo>
                      <a:pt x="0" y="6"/>
                    </a:moveTo>
                    <a:cubicBezTo>
                      <a:pt x="41" y="233"/>
                      <a:pt x="85" y="424"/>
                      <a:pt x="122" y="460"/>
                    </a:cubicBezTo>
                    <a:cubicBezTo>
                      <a:pt x="159" y="496"/>
                      <a:pt x="187" y="293"/>
                      <a:pt x="222" y="224"/>
                    </a:cubicBezTo>
                    <a:cubicBezTo>
                      <a:pt x="257" y="155"/>
                      <a:pt x="290" y="85"/>
                      <a:pt x="334" y="48"/>
                    </a:cubicBezTo>
                    <a:cubicBezTo>
                      <a:pt x="378" y="11"/>
                      <a:pt x="454" y="10"/>
                      <a:pt x="486" y="0"/>
                    </a:cubicBezTo>
                  </a:path>
                </a:pathLst>
              </a:custGeom>
              <a:noFill/>
              <a:ln w="1908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V="1">
                <a:off x="6448680" y="2528640"/>
                <a:ext cx="12240" cy="38160"/>
              </a:xfrm>
              <a:prstGeom prst="line">
                <a:avLst/>
              </a:prstGeom>
              <a:ln w="1908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V="1">
                <a:off x="6432840" y="2528280"/>
                <a:ext cx="27720" cy="16200"/>
              </a:xfrm>
              <a:prstGeom prst="line">
                <a:avLst/>
              </a:prstGeom>
              <a:ln w="1908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H="1" flipV="1">
                <a:off x="6460920" y="2528280"/>
                <a:ext cx="13320" cy="29880"/>
              </a:xfrm>
              <a:prstGeom prst="line">
                <a:avLst/>
              </a:prstGeom>
              <a:ln w="1908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5726880" y="2918160"/>
              <a:ext cx="253800" cy="250200"/>
              <a:chOff x="5726880" y="2918160"/>
              <a:chExt cx="253800" cy="250200"/>
            </a:xfrm>
          </p:grpSpPr>
          <p:sp>
            <p:nvSpPr>
              <p:cNvPr id="359" name=""/>
              <p:cNvSpPr/>
              <p:nvPr/>
            </p:nvSpPr>
            <p:spPr>
              <a:xfrm rot="13305600">
                <a:off x="5944320" y="3132720"/>
                <a:ext cx="17280" cy="34200"/>
              </a:xfrm>
              <a:custGeom>
                <a:avLst/>
                <a:gdLst/>
                <a:ahLst/>
                <a:rect l="l" t="t" r="r" b="b"/>
                <a:pathLst>
                  <a:path w="907" h="454">
                    <a:moveTo>
                      <a:pt x="0" y="454"/>
                    </a:moveTo>
                    <a:cubicBezTo>
                      <a:pt x="151" y="227"/>
                      <a:pt x="302" y="0"/>
                      <a:pt x="453" y="0"/>
                    </a:cubicBezTo>
                    <a:cubicBezTo>
                      <a:pt x="604" y="0"/>
                      <a:pt x="809" y="340"/>
                      <a:pt x="907" y="454"/>
                    </a:cubicBezTo>
                  </a:path>
                </a:pathLst>
              </a:custGeom>
              <a:noFill/>
              <a:ln w="1908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V="1" rot="13305600">
                <a:off x="5954040" y="3095640"/>
                <a:ext cx="17280" cy="34200"/>
              </a:xfrm>
              <a:custGeom>
                <a:avLst/>
                <a:gdLst/>
                <a:ahLst/>
                <a:rect l="l" t="t" r="r" b="b"/>
                <a:pathLst>
                  <a:path w="907" h="454">
                    <a:moveTo>
                      <a:pt x="0" y="454"/>
                    </a:moveTo>
                    <a:cubicBezTo>
                      <a:pt x="151" y="227"/>
                      <a:pt x="302" y="0"/>
                      <a:pt x="453" y="0"/>
                    </a:cubicBezTo>
                    <a:cubicBezTo>
                      <a:pt x="604" y="0"/>
                      <a:pt x="809" y="340"/>
                      <a:pt x="907" y="454"/>
                    </a:cubicBezTo>
                  </a:path>
                </a:pathLst>
              </a:custGeom>
              <a:noFill/>
              <a:ln w="1908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13305600">
                <a:off x="5918400" y="3109680"/>
                <a:ext cx="17280" cy="34200"/>
              </a:xfrm>
              <a:custGeom>
                <a:avLst/>
                <a:gdLst/>
                <a:ahLst/>
                <a:rect l="l" t="t" r="r" b="b"/>
                <a:pathLst>
                  <a:path w="907" h="454">
                    <a:moveTo>
                      <a:pt x="0" y="454"/>
                    </a:moveTo>
                    <a:cubicBezTo>
                      <a:pt x="151" y="227"/>
                      <a:pt x="302" y="0"/>
                      <a:pt x="453" y="0"/>
                    </a:cubicBezTo>
                    <a:cubicBezTo>
                      <a:pt x="604" y="0"/>
                      <a:pt x="809" y="340"/>
                      <a:pt x="907" y="454"/>
                    </a:cubicBezTo>
                  </a:path>
                </a:pathLst>
              </a:custGeom>
              <a:noFill/>
              <a:ln w="1908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V="1" rot="13305600">
                <a:off x="5928120" y="3072600"/>
                <a:ext cx="17280" cy="34200"/>
              </a:xfrm>
              <a:custGeom>
                <a:avLst/>
                <a:gdLst/>
                <a:ahLst/>
                <a:rect l="l" t="t" r="r" b="b"/>
                <a:pathLst>
                  <a:path w="907" h="454">
                    <a:moveTo>
                      <a:pt x="0" y="454"/>
                    </a:moveTo>
                    <a:cubicBezTo>
                      <a:pt x="151" y="227"/>
                      <a:pt x="302" y="0"/>
                      <a:pt x="453" y="0"/>
                    </a:cubicBezTo>
                    <a:cubicBezTo>
                      <a:pt x="604" y="0"/>
                      <a:pt x="809" y="340"/>
                      <a:pt x="907" y="454"/>
                    </a:cubicBezTo>
                  </a:path>
                </a:pathLst>
              </a:custGeom>
              <a:noFill/>
              <a:ln w="1908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13305600">
                <a:off x="5892480" y="3086640"/>
                <a:ext cx="17280" cy="34200"/>
              </a:xfrm>
              <a:custGeom>
                <a:avLst/>
                <a:gdLst/>
                <a:ahLst/>
                <a:rect l="l" t="t" r="r" b="b"/>
                <a:pathLst>
                  <a:path w="907" h="454">
                    <a:moveTo>
                      <a:pt x="0" y="454"/>
                    </a:moveTo>
                    <a:cubicBezTo>
                      <a:pt x="151" y="227"/>
                      <a:pt x="302" y="0"/>
                      <a:pt x="453" y="0"/>
                    </a:cubicBezTo>
                    <a:cubicBezTo>
                      <a:pt x="604" y="0"/>
                      <a:pt x="809" y="340"/>
                      <a:pt x="907" y="454"/>
                    </a:cubicBezTo>
                  </a:path>
                </a:pathLst>
              </a:custGeom>
              <a:noFill/>
              <a:ln w="1908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V="1" rot="13305600">
                <a:off x="5902200" y="3049560"/>
                <a:ext cx="17280" cy="34200"/>
              </a:xfrm>
              <a:custGeom>
                <a:avLst/>
                <a:gdLst/>
                <a:ahLst/>
                <a:rect l="l" t="t" r="r" b="b"/>
                <a:pathLst>
                  <a:path w="907" h="454">
                    <a:moveTo>
                      <a:pt x="0" y="454"/>
                    </a:moveTo>
                    <a:cubicBezTo>
                      <a:pt x="151" y="227"/>
                      <a:pt x="302" y="0"/>
                      <a:pt x="453" y="0"/>
                    </a:cubicBezTo>
                    <a:cubicBezTo>
                      <a:pt x="604" y="0"/>
                      <a:pt x="809" y="340"/>
                      <a:pt x="907" y="454"/>
                    </a:cubicBezTo>
                  </a:path>
                </a:pathLst>
              </a:custGeom>
              <a:noFill/>
              <a:ln w="1908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rot="13305600">
                <a:off x="5866200" y="3063240"/>
                <a:ext cx="17280" cy="34200"/>
              </a:xfrm>
              <a:custGeom>
                <a:avLst/>
                <a:gdLst/>
                <a:ahLst/>
                <a:rect l="l" t="t" r="r" b="b"/>
                <a:pathLst>
                  <a:path w="907" h="454">
                    <a:moveTo>
                      <a:pt x="0" y="454"/>
                    </a:moveTo>
                    <a:cubicBezTo>
                      <a:pt x="151" y="227"/>
                      <a:pt x="302" y="0"/>
                      <a:pt x="453" y="0"/>
                    </a:cubicBezTo>
                    <a:cubicBezTo>
                      <a:pt x="604" y="0"/>
                      <a:pt x="809" y="340"/>
                      <a:pt x="907" y="454"/>
                    </a:cubicBezTo>
                  </a:path>
                </a:pathLst>
              </a:custGeom>
              <a:noFill/>
              <a:ln w="1908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V="1" rot="13305600">
                <a:off x="5876280" y="3026160"/>
                <a:ext cx="17280" cy="34200"/>
              </a:xfrm>
              <a:custGeom>
                <a:avLst/>
                <a:gdLst/>
                <a:ahLst/>
                <a:rect l="l" t="t" r="r" b="b"/>
                <a:pathLst>
                  <a:path w="907" h="454">
                    <a:moveTo>
                      <a:pt x="0" y="454"/>
                    </a:moveTo>
                    <a:cubicBezTo>
                      <a:pt x="151" y="227"/>
                      <a:pt x="302" y="0"/>
                      <a:pt x="453" y="0"/>
                    </a:cubicBezTo>
                    <a:cubicBezTo>
                      <a:pt x="604" y="0"/>
                      <a:pt x="809" y="340"/>
                      <a:pt x="907" y="454"/>
                    </a:cubicBezTo>
                  </a:path>
                </a:pathLst>
              </a:custGeom>
              <a:noFill/>
              <a:ln w="1908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rot="13305600">
                <a:off x="5840280" y="3039840"/>
                <a:ext cx="17280" cy="34200"/>
              </a:xfrm>
              <a:custGeom>
                <a:avLst/>
                <a:gdLst/>
                <a:ahLst/>
                <a:rect l="l" t="t" r="r" b="b"/>
                <a:pathLst>
                  <a:path w="907" h="454">
                    <a:moveTo>
                      <a:pt x="0" y="454"/>
                    </a:moveTo>
                    <a:cubicBezTo>
                      <a:pt x="151" y="227"/>
                      <a:pt x="302" y="0"/>
                      <a:pt x="453" y="0"/>
                    </a:cubicBezTo>
                    <a:cubicBezTo>
                      <a:pt x="604" y="0"/>
                      <a:pt x="809" y="340"/>
                      <a:pt x="907" y="454"/>
                    </a:cubicBezTo>
                  </a:path>
                </a:pathLst>
              </a:custGeom>
              <a:noFill/>
              <a:ln w="1908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V="1" rot="13305600">
                <a:off x="5850000" y="3003120"/>
                <a:ext cx="17280" cy="34200"/>
              </a:xfrm>
              <a:custGeom>
                <a:avLst/>
                <a:gdLst/>
                <a:ahLst/>
                <a:rect l="l" t="t" r="r" b="b"/>
                <a:pathLst>
                  <a:path w="907" h="454">
                    <a:moveTo>
                      <a:pt x="0" y="454"/>
                    </a:moveTo>
                    <a:cubicBezTo>
                      <a:pt x="151" y="227"/>
                      <a:pt x="302" y="0"/>
                      <a:pt x="453" y="0"/>
                    </a:cubicBezTo>
                    <a:cubicBezTo>
                      <a:pt x="604" y="0"/>
                      <a:pt x="809" y="340"/>
                      <a:pt x="907" y="454"/>
                    </a:cubicBezTo>
                  </a:path>
                </a:pathLst>
              </a:custGeom>
              <a:noFill/>
              <a:ln w="1908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rot="13305600">
                <a:off x="5814360" y="3017160"/>
                <a:ext cx="17280" cy="34200"/>
              </a:xfrm>
              <a:custGeom>
                <a:avLst/>
                <a:gdLst/>
                <a:ahLst/>
                <a:rect l="l" t="t" r="r" b="b"/>
                <a:pathLst>
                  <a:path w="907" h="454">
                    <a:moveTo>
                      <a:pt x="0" y="454"/>
                    </a:moveTo>
                    <a:cubicBezTo>
                      <a:pt x="151" y="227"/>
                      <a:pt x="302" y="0"/>
                      <a:pt x="453" y="0"/>
                    </a:cubicBezTo>
                    <a:cubicBezTo>
                      <a:pt x="604" y="0"/>
                      <a:pt x="809" y="340"/>
                      <a:pt x="907" y="454"/>
                    </a:cubicBezTo>
                  </a:path>
                </a:pathLst>
              </a:custGeom>
              <a:noFill/>
              <a:ln w="1908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V="1" rot="13305600">
                <a:off x="5824080" y="2979720"/>
                <a:ext cx="17280" cy="34200"/>
              </a:xfrm>
              <a:custGeom>
                <a:avLst/>
                <a:gdLst/>
                <a:ahLst/>
                <a:rect l="l" t="t" r="r" b="b"/>
                <a:pathLst>
                  <a:path w="907" h="454">
                    <a:moveTo>
                      <a:pt x="0" y="454"/>
                    </a:moveTo>
                    <a:cubicBezTo>
                      <a:pt x="151" y="227"/>
                      <a:pt x="302" y="0"/>
                      <a:pt x="453" y="0"/>
                    </a:cubicBezTo>
                    <a:cubicBezTo>
                      <a:pt x="604" y="0"/>
                      <a:pt x="809" y="340"/>
                      <a:pt x="907" y="454"/>
                    </a:cubicBezTo>
                  </a:path>
                </a:pathLst>
              </a:custGeom>
              <a:noFill/>
              <a:ln w="1908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rot="13305600">
                <a:off x="5788440" y="2993760"/>
                <a:ext cx="17280" cy="34200"/>
              </a:xfrm>
              <a:custGeom>
                <a:avLst/>
                <a:gdLst/>
                <a:ahLst/>
                <a:rect l="l" t="t" r="r" b="b"/>
                <a:pathLst>
                  <a:path w="907" h="454">
                    <a:moveTo>
                      <a:pt x="0" y="454"/>
                    </a:moveTo>
                    <a:cubicBezTo>
                      <a:pt x="151" y="227"/>
                      <a:pt x="302" y="0"/>
                      <a:pt x="453" y="0"/>
                    </a:cubicBezTo>
                    <a:cubicBezTo>
                      <a:pt x="604" y="0"/>
                      <a:pt x="809" y="340"/>
                      <a:pt x="907" y="454"/>
                    </a:cubicBezTo>
                  </a:path>
                </a:pathLst>
              </a:custGeom>
              <a:noFill/>
              <a:ln w="1908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V="1" rot="13305600">
                <a:off x="5798160" y="2956680"/>
                <a:ext cx="17280" cy="34200"/>
              </a:xfrm>
              <a:custGeom>
                <a:avLst/>
                <a:gdLst/>
                <a:ahLst/>
                <a:rect l="l" t="t" r="r" b="b"/>
                <a:pathLst>
                  <a:path w="907" h="454">
                    <a:moveTo>
                      <a:pt x="0" y="454"/>
                    </a:moveTo>
                    <a:cubicBezTo>
                      <a:pt x="151" y="227"/>
                      <a:pt x="302" y="0"/>
                      <a:pt x="453" y="0"/>
                    </a:cubicBezTo>
                    <a:cubicBezTo>
                      <a:pt x="604" y="0"/>
                      <a:pt x="809" y="340"/>
                      <a:pt x="907" y="454"/>
                    </a:cubicBezTo>
                  </a:path>
                </a:pathLst>
              </a:custGeom>
              <a:noFill/>
              <a:ln w="1908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rot="13305600">
                <a:off x="5762520" y="2970360"/>
                <a:ext cx="17280" cy="34200"/>
              </a:xfrm>
              <a:custGeom>
                <a:avLst/>
                <a:gdLst/>
                <a:ahLst/>
                <a:rect l="l" t="t" r="r" b="b"/>
                <a:pathLst>
                  <a:path w="907" h="454">
                    <a:moveTo>
                      <a:pt x="0" y="454"/>
                    </a:moveTo>
                    <a:cubicBezTo>
                      <a:pt x="151" y="227"/>
                      <a:pt x="302" y="0"/>
                      <a:pt x="453" y="0"/>
                    </a:cubicBezTo>
                    <a:cubicBezTo>
                      <a:pt x="604" y="0"/>
                      <a:pt x="809" y="340"/>
                      <a:pt x="907" y="454"/>
                    </a:cubicBezTo>
                  </a:path>
                </a:pathLst>
              </a:custGeom>
              <a:noFill/>
              <a:ln w="1908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rot="13305600">
                <a:off x="5758200" y="2925000"/>
                <a:ext cx="34560" cy="37440"/>
              </a:xfrm>
              <a:custGeom>
                <a:avLst/>
                <a:gdLst/>
                <a:ahLst/>
                <a:rect l="l" t="t" r="r" b="b"/>
                <a:pathLst>
                  <a:path w="486" h="496">
                    <a:moveTo>
                      <a:pt x="0" y="6"/>
                    </a:moveTo>
                    <a:cubicBezTo>
                      <a:pt x="41" y="233"/>
                      <a:pt x="85" y="424"/>
                      <a:pt x="122" y="460"/>
                    </a:cubicBezTo>
                    <a:cubicBezTo>
                      <a:pt x="159" y="496"/>
                      <a:pt x="187" y="293"/>
                      <a:pt x="222" y="224"/>
                    </a:cubicBezTo>
                    <a:cubicBezTo>
                      <a:pt x="257" y="155"/>
                      <a:pt x="290" y="85"/>
                      <a:pt x="334" y="48"/>
                    </a:cubicBezTo>
                    <a:cubicBezTo>
                      <a:pt x="378" y="11"/>
                      <a:pt x="454" y="10"/>
                      <a:pt x="486" y="0"/>
                    </a:cubicBezTo>
                  </a:path>
                </a:pathLst>
              </a:custGeom>
              <a:noFill/>
              <a:ln w="1908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H="1" flipV="1">
                <a:off x="5727240" y="2925360"/>
                <a:ext cx="24120" cy="21600"/>
              </a:xfrm>
              <a:prstGeom prst="line">
                <a:avLst/>
              </a:prstGeom>
              <a:ln w="1908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H="1" flipV="1">
                <a:off x="5726880" y="2925360"/>
                <a:ext cx="3240" cy="25560"/>
              </a:xfrm>
              <a:prstGeom prst="line">
                <a:avLst/>
              </a:prstGeom>
              <a:ln w="1908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H="1" flipV="1">
                <a:off x="5726880" y="2925360"/>
                <a:ext cx="25920" cy="360"/>
              </a:xfrm>
              <a:prstGeom prst="line">
                <a:avLst/>
              </a:prstGeom>
              <a:ln w="1908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5654520" y="2278080"/>
              <a:ext cx="71640" cy="71280"/>
            </a:xfrm>
            <a:prstGeom prst="ellipse">
              <a:avLst/>
            </a:prstGeom>
            <a:solidFill>
              <a:srgbClr val="080808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002200" y="3357720"/>
              <a:ext cx="1657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Recombin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796000" y="5084640"/>
              <a:ext cx="574560" cy="1224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435640" y="5516640"/>
              <a:ext cx="122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80808"/>
                  </a:solidFill>
                  <a:latin typeface="Comic Sans MS"/>
                </a:rPr>
                <a:t>CM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635280" y="5084640"/>
            <a:ext cx="2160720" cy="1224000"/>
            <a:chOff x="3635280" y="5084640"/>
            <a:chExt cx="2160720" cy="1224000"/>
          </a:xfrm>
        </p:grpSpPr>
        <p:sp>
          <p:nvSpPr>
            <p:cNvPr id="383" name=""/>
            <p:cNvSpPr/>
            <p:nvPr/>
          </p:nvSpPr>
          <p:spPr>
            <a:xfrm>
              <a:off x="3635280" y="5084640"/>
              <a:ext cx="2160720" cy="12240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635280" y="5516640"/>
              <a:ext cx="21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80808"/>
                  </a:solidFill>
                  <a:latin typeface="Comic Sans MS"/>
                </a:rPr>
                <a:t>« Dark ages 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6443640" y="2205000"/>
            <a:ext cx="1441440" cy="4103640"/>
            <a:chOff x="6443640" y="2205000"/>
            <a:chExt cx="1441440" cy="4103640"/>
          </a:xfrm>
        </p:grpSpPr>
        <p:sp>
          <p:nvSpPr>
            <p:cNvPr id="386" name=""/>
            <p:cNvSpPr/>
            <p:nvPr/>
          </p:nvSpPr>
          <p:spPr>
            <a:xfrm>
              <a:off x="6732720" y="2205000"/>
              <a:ext cx="1079280" cy="1079640"/>
            </a:xfrm>
            <a:prstGeom prst="cube">
              <a:avLst>
                <a:gd name="adj" fmla="val 25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732720" y="2205000"/>
              <a:ext cx="1079280" cy="1079640"/>
            </a:xfrm>
            <a:prstGeom prst="cube">
              <a:avLst>
                <a:gd name="adj" fmla="val 25000"/>
              </a:avLst>
            </a:prstGeom>
            <a:solidFill>
              <a:srgbClr val="ff0000">
                <a:alpha val="4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516720" y="3357720"/>
              <a:ext cx="1368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Big Bang</a:t>
              </a:r>
              <a:br>
                <a:rPr sz="1600"/>
              </a:b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Infl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732720" y="5084640"/>
              <a:ext cx="574560" cy="12240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443640" y="5516640"/>
              <a:ext cx="122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80808"/>
                  </a:solidFill>
                  <a:latin typeface="Comic Sans MS"/>
                </a:rPr>
                <a:t>BB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mic 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ole astrparticule OH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RB - 13/09/07</a:t>
            </a: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-36360" y="6524640"/>
            <a:ext cx="921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-36360" y="6524640"/>
            <a:ext cx="921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55640" y="4802040"/>
            <a:ext cx="6985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451640" y="4581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Redsh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55640" y="465948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979640" y="465948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635280" y="465948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084720" y="465948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465948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39640" y="42991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476360" y="42991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~ 3-7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987640" y="42991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~ 10-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653080" y="42991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877080" y="4227480"/>
            <a:ext cx="86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55640" y="5084640"/>
            <a:ext cx="1224000" cy="1224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55640" y="5157720"/>
            <a:ext cx="1224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80808"/>
                </a:solidFill>
                <a:latin typeface="Comic Sans MS"/>
              </a:rPr>
              <a:t>Observable universe with present day telesco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979640" y="5084640"/>
            <a:ext cx="1655640" cy="1224000"/>
          </a:xfrm>
          <a:prstGeom prst="rect">
            <a:avLst/>
          </a:prstGeom>
          <a:solidFill>
            <a:srgbClr val="ffff99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195640" y="5222880"/>
            <a:ext cx="122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80808"/>
                </a:solidFill>
                <a:latin typeface="Comic Sans MS"/>
              </a:rPr>
              <a:t>Terra incogn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796000" y="5084640"/>
            <a:ext cx="574560" cy="1224000"/>
          </a:xfrm>
          <a:prstGeom prst="rect">
            <a:avLst/>
          </a:prstGeom>
          <a:solidFill>
            <a:srgbClr val="ffff99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435640" y="551664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80808"/>
                </a:solidFill>
                <a:latin typeface="Comic Sans MS"/>
              </a:rPr>
              <a:t>CM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635280" y="5084640"/>
            <a:ext cx="2160720" cy="1224000"/>
          </a:xfrm>
          <a:prstGeom prst="rect">
            <a:avLst/>
          </a:prstGeom>
          <a:solidFill>
            <a:srgbClr val="80808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635280" y="5516640"/>
            <a:ext cx="21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80808"/>
                </a:solidFill>
                <a:latin typeface="Comic Sans MS"/>
              </a:rPr>
              <a:t>«Dark ages 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732720" y="5084640"/>
            <a:ext cx="574560" cy="1224000"/>
          </a:xfrm>
          <a:prstGeom prst="rect">
            <a:avLst/>
          </a:prstGeom>
          <a:solidFill>
            <a:srgbClr val="ff99cc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443640" y="551664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80808"/>
                </a:solidFill>
                <a:latin typeface="Comic Sans MS"/>
              </a:rPr>
              <a:t>BB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684360" y="1125360"/>
            <a:ext cx="7127640" cy="503280"/>
            <a:chOff x="684360" y="1125360"/>
            <a:chExt cx="7127640" cy="503280"/>
          </a:xfrm>
        </p:grpSpPr>
        <p:sp>
          <p:nvSpPr>
            <p:cNvPr id="417" name=""/>
            <p:cNvSpPr/>
            <p:nvPr/>
          </p:nvSpPr>
          <p:spPr>
            <a:xfrm>
              <a:off x="684360" y="1125360"/>
              <a:ext cx="142560" cy="503280"/>
            </a:xfrm>
            <a:prstGeom prst="rect">
              <a:avLst/>
            </a:prstGeom>
            <a:solidFill>
              <a:srgbClr val="ffff66"/>
            </a:solidFill>
            <a:ln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26920" y="1197000"/>
              <a:ext cx="19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loc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867280" y="1197000"/>
              <a:ext cx="19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Sta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684360" y="2422440"/>
            <a:ext cx="7127640" cy="503280"/>
            <a:chOff x="684360" y="2422440"/>
            <a:chExt cx="7127640" cy="503280"/>
          </a:xfrm>
        </p:grpSpPr>
        <p:sp>
          <p:nvSpPr>
            <p:cNvPr id="421" name=""/>
            <p:cNvSpPr/>
            <p:nvPr/>
          </p:nvSpPr>
          <p:spPr>
            <a:xfrm>
              <a:off x="684360" y="2422440"/>
              <a:ext cx="1511280" cy="503280"/>
            </a:xfrm>
            <a:prstGeom prst="rect">
              <a:avLst/>
            </a:prstGeom>
            <a:solidFill>
              <a:srgbClr val="ffff66"/>
            </a:solidFill>
            <a:ln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266920" y="2486160"/>
              <a:ext cx="19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z ≈ 7-10 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867280" y="2492280"/>
              <a:ext cx="19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Quasa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684360" y="3070080"/>
            <a:ext cx="7127640" cy="503280"/>
            <a:chOff x="684360" y="3070080"/>
            <a:chExt cx="7127640" cy="503280"/>
          </a:xfrm>
        </p:grpSpPr>
        <p:sp>
          <p:nvSpPr>
            <p:cNvPr id="425" name=""/>
            <p:cNvSpPr/>
            <p:nvPr/>
          </p:nvSpPr>
          <p:spPr>
            <a:xfrm>
              <a:off x="684360" y="3070080"/>
              <a:ext cx="1871640" cy="503280"/>
            </a:xfrm>
            <a:prstGeom prst="rect">
              <a:avLst/>
            </a:prstGeom>
            <a:solidFill>
              <a:srgbClr val="ffff66"/>
            </a:solidFill>
            <a:ln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627280" y="3133800"/>
              <a:ext cx="19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z ≈ 12 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867280" y="3141720"/>
              <a:ext cx="19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Afterglow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684360" y="3718080"/>
            <a:ext cx="7273800" cy="502920"/>
            <a:chOff x="684360" y="3718080"/>
            <a:chExt cx="7273800" cy="502920"/>
          </a:xfrm>
        </p:grpSpPr>
        <p:sp>
          <p:nvSpPr>
            <p:cNvPr id="429" name=""/>
            <p:cNvSpPr/>
            <p:nvPr/>
          </p:nvSpPr>
          <p:spPr>
            <a:xfrm>
              <a:off x="684360" y="3718080"/>
              <a:ext cx="2950920" cy="502920"/>
            </a:xfrm>
            <a:prstGeom prst="rect">
              <a:avLst/>
            </a:prstGeom>
            <a:solidFill>
              <a:srgbClr val="ffff66"/>
            </a:solidFill>
            <a:ln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706920" y="3782880"/>
              <a:ext cx="19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z ≈ 15-20 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724360" y="3789360"/>
              <a:ext cx="22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GRB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684360" y="1773360"/>
            <a:ext cx="7127640" cy="503280"/>
            <a:chOff x="684360" y="1773360"/>
            <a:chExt cx="7127640" cy="503280"/>
          </a:xfrm>
        </p:grpSpPr>
        <p:sp>
          <p:nvSpPr>
            <p:cNvPr id="433" name=""/>
            <p:cNvSpPr/>
            <p:nvPr/>
          </p:nvSpPr>
          <p:spPr>
            <a:xfrm>
              <a:off x="684360" y="1773360"/>
              <a:ext cx="792000" cy="503280"/>
            </a:xfrm>
            <a:prstGeom prst="rect">
              <a:avLst/>
            </a:prstGeom>
            <a:solidFill>
              <a:srgbClr val="ffff66"/>
            </a:solidFill>
            <a:ln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476360" y="1836720"/>
              <a:ext cx="19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z ≈ 1-2 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867280" y="1843200"/>
              <a:ext cx="19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SN 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ximum distance of det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ole astrparticule OH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RB - 13/09/07</a:t>
            </a: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" descr=""/>
          <p:cNvPicPr/>
          <p:nvPr/>
        </p:nvPicPr>
        <p:blipFill>
          <a:blip r:embed="rId2"/>
          <a:stretch/>
        </p:blipFill>
        <p:spPr>
          <a:xfrm>
            <a:off x="-774720" y="-458640"/>
            <a:ext cx="10692000" cy="755640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>
            <a:off x="4716360" y="3284640"/>
            <a:ext cx="2448000" cy="2665440"/>
          </a:xfrm>
          <a:prstGeom prst="ellipse">
            <a:avLst/>
          </a:prstGeom>
          <a:solidFill>
            <a:srgbClr val="ff00ff">
              <a:alpha val="3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B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ole astrparticule OH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RB - 13/09/07</a:t>
            </a: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55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8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presentation of GRBs and rough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Ground vs.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fterglow: physics of GR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fterglow: Cosmology with GR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Ground (with space) future prosp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ole astrparticule OH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RB - 13/09/07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3848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WIFT (longue vie to SWIF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LAST (with GB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VOM – Phase A CNES (200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48320" y="981000"/>
            <a:ext cx="43164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p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R becoming more import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ortant: Optical + 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, I , J, K, L , M give access to cosmological GR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ed for better sampling of light cur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tral (color) capabilit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ss-rap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LT rapid m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-shooter instr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min poin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y on SWIFT / TAROT / REM da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d-sized (ZSAT) telescopes (1-4m) very usefu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ai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specia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de field of 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ization accura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phan GR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FHT, TAROT,G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istent, continuous burst coverage for &gt; 1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ole astrparticule OHP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RB - 13/09/07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Ground follow-up telesc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3848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cience: variable sky surv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GRBs and orphan afterglow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ide coverage in frequency De 10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à 1 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ollow objects over years (if need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ast sampling of light curve (needed for GRB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ide angural co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5000 sq. deg. per we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ixel 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st processing and notification of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inutes (or l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&gt;1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0.5de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utonom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High Energy Transients / Gamma-Ray Bur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eact on alerts from satelli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rompt GRB and start of afterglow light cur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ast 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n-chromatic (Visible to mid-IR) follow-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ole astrparticule OHP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RB - 13/09/07</a:t>
            </a: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46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V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3848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ntinuous time co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anchromatic coverage (IR to vis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ust embeded GR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ark GR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GRBs for cosmology, photometric redshif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eed both good sensitivity and good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ccess to mid-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K: z= 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: z =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xample: re-ionization history in 1 or 2 pa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Granularity of neutral / ionized medi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rigi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2"/>
          <a:stretch/>
        </p:blipFill>
        <p:spPr>
          <a:xfrm>
            <a:off x="4572000" y="3645000"/>
            <a:ext cx="4572000" cy="2941560"/>
          </a:xfrm>
          <a:prstGeom prst="rect">
            <a:avLst/>
          </a:prstGeom>
          <a:ln w="0">
            <a:noFill/>
          </a:ln>
        </p:spPr>
      </p:pic>
      <p:grpSp>
        <p:nvGrpSpPr>
          <p:cNvPr id="449" name=""/>
          <p:cNvGrpSpPr/>
          <p:nvPr/>
        </p:nvGrpSpPr>
        <p:grpSpPr>
          <a:xfrm>
            <a:off x="4572000" y="0"/>
            <a:ext cx="4572000" cy="3213000"/>
            <a:chOff x="4572000" y="0"/>
            <a:chExt cx="4572000" cy="3213000"/>
          </a:xfrm>
        </p:grpSpPr>
        <p:pic>
          <p:nvPicPr>
            <p:cNvPr id="450" name="" descr=""/>
            <p:cNvPicPr/>
            <p:nvPr/>
          </p:nvPicPr>
          <p:blipFill>
            <a:blip r:embed="rId3"/>
            <a:stretch/>
          </p:blipFill>
          <p:spPr>
            <a:xfrm>
              <a:off x="4572000" y="0"/>
              <a:ext cx="4572000" cy="32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"/>
            <p:cNvSpPr/>
            <p:nvPr/>
          </p:nvSpPr>
          <p:spPr>
            <a:xfrm>
              <a:off x="6194160" y="1332720"/>
              <a:ext cx="810720" cy="0"/>
            </a:xfrm>
            <a:prstGeom prst="line">
              <a:avLst/>
            </a:prstGeom>
            <a:ln w="316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194160" y="2517480"/>
              <a:ext cx="0" cy="295920"/>
            </a:xfrm>
            <a:prstGeom prst="line">
              <a:avLst/>
            </a:prstGeom>
            <a:ln w="316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005240" y="2517480"/>
              <a:ext cx="0" cy="295920"/>
            </a:xfrm>
            <a:prstGeom prst="line">
              <a:avLst/>
            </a:prstGeom>
            <a:ln w="316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"/>
          <p:cNvSpPr/>
          <p:nvPr/>
        </p:nvSpPr>
        <p:spPr>
          <a:xfrm>
            <a:off x="4762080" y="2946240"/>
            <a:ext cx="189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Lamb and Reichart,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442200" y="6573960"/>
            <a:ext cx="2536920" cy="2764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oue, Yamazaki, Nakamura,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ole astrparticule OH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RB - 13/09/07</a:t>
            </a: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6840" y="1052280"/>
            <a:ext cx="814716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und based GRB astronomy now well establish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usual for GRBs, large dispersion in size: 0.1 to 10m are usef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ysics of GR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smology with GR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st of fundamental phys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st important is the complementarities between space and ground based instru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the future need more rapid, faster instru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ous coverage for over 1 d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st 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pid spectral/polarization evolu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ral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-shooter and VLT rapid m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works of rapid telesco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VOM/G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 nee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l network of (0.2 – 1m) rapid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lesco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ultaneous visible – IR – X-ray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verage of precursor ev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2"/>
          <a:stretch/>
        </p:blipFill>
        <p:spPr>
          <a:xfrm>
            <a:off x="4859280" y="2997360"/>
            <a:ext cx="3638520" cy="3619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ole astrparticule OH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RB - 13/09/07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7138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Gamma-Ray Bur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330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mpt event: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ations from 0.01 to 1000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populations (0.5s et 30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 law afterglow t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1,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 2 GRB/d &gt;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g/s.cm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4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WIFT 150/y, GLAST 400/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cal rate  ~2 Gpc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yr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nchromatic events: Spectrum peaks between &lt; 10 and 1000 ke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spectrum from 1mkeV to &gt;? 20 Ge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pid variability (&lt; 10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mological origin (0.001 &lt; z &lt; 4.5 (measured) &lt; 15?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tropic luminosity aroun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51-5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gs, however, emission in jets imply luminosity around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4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932360" y="3933720"/>
            <a:ext cx="3276720" cy="2187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4932360" y="1268280"/>
            <a:ext cx="3384720" cy="2517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ole astrparticule OH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RB - 13/09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GRB 99012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464000" y="1125360"/>
            <a:ext cx="4222800" cy="4967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1332000" y="3522600"/>
            <a:ext cx="2663640" cy="26481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900000" y="1228680"/>
            <a:ext cx="3167280" cy="236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ole astrparticule OH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RB - 13/09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124000" y="620640"/>
            <a:ext cx="5191200" cy="3514680"/>
          </a:xfrm>
          <a:prstGeom prst="rect">
            <a:avLst/>
          </a:prstGeom>
          <a:ln w="0">
            <a:noFill/>
          </a:ln>
        </p:spPr>
      </p:pic>
      <p:grpSp>
        <p:nvGrpSpPr>
          <p:cNvPr id="64" name=""/>
          <p:cNvGrpSpPr/>
          <p:nvPr/>
        </p:nvGrpSpPr>
        <p:grpSpPr>
          <a:xfrm>
            <a:off x="1790640" y="4292640"/>
            <a:ext cx="5562720" cy="1551600"/>
            <a:chOff x="1790640" y="4292640"/>
            <a:chExt cx="5562720" cy="1551600"/>
          </a:xfrm>
        </p:grpSpPr>
        <p:grpSp>
          <p:nvGrpSpPr>
            <p:cNvPr id="65" name=""/>
            <p:cNvGrpSpPr/>
            <p:nvPr/>
          </p:nvGrpSpPr>
          <p:grpSpPr>
            <a:xfrm>
              <a:off x="1790640" y="5129640"/>
              <a:ext cx="3276360" cy="714600"/>
              <a:chOff x="1790640" y="5129640"/>
              <a:chExt cx="3276360" cy="714600"/>
            </a:xfrm>
          </p:grpSpPr>
          <p:sp>
            <p:nvSpPr>
              <p:cNvPr id="66" name=""/>
              <p:cNvSpPr/>
              <p:nvPr/>
            </p:nvSpPr>
            <p:spPr>
              <a:xfrm flipV="1">
                <a:off x="1790640" y="5130720"/>
                <a:ext cx="251460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790640" y="5587920"/>
                <a:ext cx="25146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8" name=""/>
              <p:cNvCxnSpPr>
                <a:stCxn id="66" idx="0"/>
                <a:endCxn id="67" idx="0"/>
              </p:cNvCxnSpPr>
              <p:nvPr/>
            </p:nvCxnSpPr>
            <p:spPr>
              <a:xfrm flipH="1" rot="16200000">
                <a:off x="3961080" y="5471640"/>
                <a:ext cx="686520" cy="2520"/>
              </a:xfrm>
              <a:prstGeom prst="curvedConnector5">
                <a:avLst>
                  <a:gd name="adj1" fmla="val 2990"/>
                  <a:gd name="adj2" fmla="val 6583333"/>
                  <a:gd name="adj3" fmla="val 299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009600" y="5511600"/>
                <a:ext cx="1219320" cy="76320"/>
              </a:xfrm>
              <a:prstGeom prst="rightArrow">
                <a:avLst>
                  <a:gd name="adj1" fmla="val 50000"/>
                  <a:gd name="adj2" fmla="val 39941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533840" y="5130720"/>
                <a:ext cx="457200" cy="75960"/>
              </a:xfrm>
              <a:custGeom>
                <a:avLst/>
                <a:gdLst>
                  <a:gd name="textAreaLeft" fmla="*/ 71280 w 457200"/>
                  <a:gd name="textAreaRight" fmla="*/ 400320 w 457200"/>
                  <a:gd name="textAreaTop" fmla="*/ 19080 h 75960"/>
                  <a:gd name="textAreaBottom" fmla="*/ 57240 h 75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609800" y="5435280"/>
                <a:ext cx="457200" cy="76320"/>
              </a:xfrm>
              <a:custGeom>
                <a:avLst/>
                <a:gdLst>
                  <a:gd name="textAreaLeft" fmla="*/ 71280 w 457200"/>
                  <a:gd name="textAreaRight" fmla="*/ 400320 w 457200"/>
                  <a:gd name="textAreaTop" fmla="*/ 19080 h 76320"/>
                  <a:gd name="textAreaBottom" fmla="*/ 572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4533840" y="5740200"/>
                <a:ext cx="457200" cy="76320"/>
              </a:xfrm>
              <a:custGeom>
                <a:avLst/>
                <a:gdLst>
                  <a:gd name="textAreaLeft" fmla="*/ 71280 w 457200"/>
                  <a:gd name="textAreaRight" fmla="*/ 400320 w 457200"/>
                  <a:gd name="textAreaTop" fmla="*/ 19080 h 76320"/>
                  <a:gd name="textAreaBottom" fmla="*/ 572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6896160" y="5207040"/>
              <a:ext cx="457200" cy="457200"/>
            </a:xfrm>
            <a:prstGeom prst="smileyFace">
              <a:avLst>
                <a:gd name="adj" fmla="val 928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667560" y="4292640"/>
              <a:ext cx="457200" cy="457200"/>
            </a:xfrm>
            <a:prstGeom prst="smileyFace">
              <a:avLst>
                <a:gd name="adj" fmla="val 9282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5219640" y="4409640"/>
            <a:ext cx="1447200" cy="2026800"/>
            <a:chOff x="5219640" y="4409640"/>
            <a:chExt cx="1447200" cy="2026800"/>
          </a:xfrm>
        </p:grpSpPr>
        <p:grpSp>
          <p:nvGrpSpPr>
            <p:cNvPr id="76" name=""/>
            <p:cNvGrpSpPr/>
            <p:nvPr/>
          </p:nvGrpSpPr>
          <p:grpSpPr>
            <a:xfrm>
              <a:off x="5219640" y="4804560"/>
              <a:ext cx="1447200" cy="1242720"/>
              <a:chOff x="5219640" y="4804560"/>
              <a:chExt cx="1447200" cy="1242720"/>
            </a:xfrm>
          </p:grpSpPr>
          <p:grpSp>
            <p:nvGrpSpPr>
              <p:cNvPr id="77" name=""/>
              <p:cNvGrpSpPr/>
              <p:nvPr/>
            </p:nvGrpSpPr>
            <p:grpSpPr>
              <a:xfrm>
                <a:off x="5219640" y="4804560"/>
                <a:ext cx="1300320" cy="1242720"/>
                <a:chOff x="5219640" y="4804560"/>
                <a:chExt cx="1300320" cy="124272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5219640" y="4813560"/>
                  <a:ext cx="228240" cy="1218960"/>
                </a:xfrm>
                <a:custGeom>
                  <a:avLst/>
                  <a:gdLst/>
                  <a:ahLst/>
                  <a:rect l="l" t="t" r="r" b="b"/>
                  <a:pathLst>
                    <a:path w="144" h="768">
                      <a:moveTo>
                        <a:pt x="0" y="0"/>
                      </a:moveTo>
                      <a:cubicBezTo>
                        <a:pt x="72" y="128"/>
                        <a:pt x="144" y="256"/>
                        <a:pt x="144" y="384"/>
                      </a:cubicBezTo>
                      <a:cubicBezTo>
                        <a:pt x="144" y="512"/>
                        <a:pt x="24" y="704"/>
                        <a:pt x="0" y="76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rot="21000000">
                  <a:off x="5523840" y="4889520"/>
                  <a:ext cx="990000" cy="151920"/>
                </a:xfrm>
                <a:custGeom>
                  <a:avLst/>
                  <a:gdLst>
                    <a:gd name="textAreaLeft" fmla="*/ 154440 w 990000"/>
                    <a:gd name="textAreaRight" fmla="*/ 866520 w 990000"/>
                    <a:gd name="textAreaTop" fmla="*/ 37800 h 151920"/>
                    <a:gd name="textAreaBottom" fmla="*/ 114120 h 151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3375" y="5400"/>
                      </a:moveTo>
                      <a:lnTo>
                        <a:pt x="16200" y="5400"/>
                      </a:ln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16200" y="16200"/>
                      </a:lnTo>
                      <a:lnTo>
                        <a:pt x="3375" y="16200"/>
                      </a:lnTo>
                      <a:close/>
                    </a:path>
                    <a:path w="21600" h="21600">
                      <a:moveTo>
                        <a:pt x="0" y="5400"/>
                      </a:moveTo>
                      <a:lnTo>
                        <a:pt x="675" y="5400"/>
                      </a:lnTo>
                      <a:lnTo>
                        <a:pt x="675" y="16200"/>
                      </a:lnTo>
                      <a:lnTo>
                        <a:pt x="0" y="16200"/>
                      </a:lnTo>
                      <a:close/>
                    </a:path>
                    <a:path w="21600" h="21600">
                      <a:moveTo>
                        <a:pt x="1350" y="5400"/>
                      </a:moveTo>
                      <a:lnTo>
                        <a:pt x="2700" y="5400"/>
                      </a:lnTo>
                      <a:lnTo>
                        <a:pt x="2700" y="16200"/>
                      </a:lnTo>
                      <a:lnTo>
                        <a:pt x="1350" y="1620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 rot="600000">
                  <a:off x="5447520" y="5803560"/>
                  <a:ext cx="1066320" cy="151920"/>
                </a:xfrm>
                <a:custGeom>
                  <a:avLst/>
                  <a:gdLst>
                    <a:gd name="textAreaLeft" fmla="*/ 166320 w 1066320"/>
                    <a:gd name="textAreaRight" fmla="*/ 933120 w 1066320"/>
                    <a:gd name="textAreaTop" fmla="*/ 37800 h 151920"/>
                    <a:gd name="textAreaBottom" fmla="*/ 114120 h 151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3375" y="5400"/>
                      </a:moveTo>
                      <a:lnTo>
                        <a:pt x="16200" y="5400"/>
                      </a:ln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16200" y="16200"/>
                      </a:lnTo>
                      <a:lnTo>
                        <a:pt x="3375" y="16200"/>
                      </a:lnTo>
                      <a:close/>
                    </a:path>
                    <a:path w="21600" h="21600">
                      <a:moveTo>
                        <a:pt x="0" y="5400"/>
                      </a:moveTo>
                      <a:lnTo>
                        <a:pt x="675" y="5400"/>
                      </a:lnTo>
                      <a:lnTo>
                        <a:pt x="675" y="16200"/>
                      </a:lnTo>
                      <a:lnTo>
                        <a:pt x="0" y="16200"/>
                      </a:lnTo>
                      <a:close/>
                    </a:path>
                    <a:path w="21600" h="21600">
                      <a:moveTo>
                        <a:pt x="1350" y="5400"/>
                      </a:moveTo>
                      <a:lnTo>
                        <a:pt x="2700" y="5400"/>
                      </a:lnTo>
                      <a:lnTo>
                        <a:pt x="2700" y="16200"/>
                      </a:lnTo>
                      <a:lnTo>
                        <a:pt x="1350" y="1620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" name=""/>
              <p:cNvSpPr/>
              <p:nvPr/>
            </p:nvSpPr>
            <p:spPr>
              <a:xfrm>
                <a:off x="5524200" y="5346720"/>
                <a:ext cx="1142640" cy="151920"/>
              </a:xfrm>
              <a:custGeom>
                <a:avLst/>
                <a:gdLst>
                  <a:gd name="textAreaLeft" fmla="*/ 178560 w 1142640"/>
                  <a:gd name="textAreaRight" fmla="*/ 1000080 w 1142640"/>
                  <a:gd name="textAreaTop" fmla="*/ 37800 h 151920"/>
                  <a:gd name="textAreaBottom" fmla="*/ 114120 h 151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" name=""/>
            <p:cNvSpPr/>
            <p:nvPr/>
          </p:nvSpPr>
          <p:spPr>
            <a:xfrm rot="19800000">
              <a:off x="5371920" y="4508280"/>
              <a:ext cx="457200" cy="228600"/>
            </a:xfrm>
            <a:custGeom>
              <a:avLst/>
              <a:gdLst>
                <a:gd name="textAreaLeft" fmla="*/ 71280 w 457200"/>
                <a:gd name="textAreaRight" fmla="*/ 400320 w 457200"/>
                <a:gd name="textAreaTop" fmla="*/ 57240 h 228600"/>
                <a:gd name="textAreaBottom" fmla="*/ 17172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800000">
              <a:off x="5371920" y="6108480"/>
              <a:ext cx="457200" cy="228600"/>
            </a:xfrm>
            <a:custGeom>
              <a:avLst/>
              <a:gdLst>
                <a:gd name="textAreaLeft" fmla="*/ 71280 w 457200"/>
                <a:gd name="textAreaRight" fmla="*/ 400320 w 457200"/>
                <a:gd name="textAreaTop" fmla="*/ 57240 h 228600"/>
                <a:gd name="textAreaBottom" fmla="*/ 17172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4201200" y="1341360"/>
            <a:ext cx="74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Γ≥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165920" y="465300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Γ≥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411280" y="3960720"/>
            <a:ext cx="158436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169939"/>
              <a:gd name="adj5" fmla="val 85939"/>
              <a:gd name="adj6" fmla="val 2032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eleration and lateral sprea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378560" y="530064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mma bur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213680" y="4363920"/>
            <a:ext cx="1549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phan afterglow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no GR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ole astrparticule OH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RB - 13/09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-399960" y="-171360"/>
            <a:ext cx="9753480" cy="70293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95560" y="5810400"/>
            <a:ext cx="819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alescence     versus        Collap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040" y="1843200"/>
            <a:ext cx="220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S-NS bin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813920" y="1843200"/>
            <a:ext cx="19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ssive s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90680" y="648324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L. Piro 20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ole astrparticule OH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RB - 13/09/07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7772400" cy="914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are GRBs so Excit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66680" y="2286000"/>
            <a:ext cx="342900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GRBs involve the fastest macroscopic relativistic motion  observed so far 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gt;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62720" y="2286000"/>
            <a:ext cx="2895480" cy="155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00"/>
                </a:solidFill>
                <a:latin typeface="Times New Roman"/>
                <a:ea typeface="Times New Roman (Hebrew)"/>
              </a:rPr>
              <a:t>GRBs signal (most likely) the fromation of  newborn black ho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66680" y="4114800"/>
            <a:ext cx="3505320" cy="192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00"/>
                </a:solidFill>
                <a:latin typeface="Times New Roman"/>
                <a:ea typeface="Times New Roman (Hebrew)"/>
              </a:rPr>
              <a:t>Sources of GRBs (merging NS or Collapsars) are also sources of Gravitational rad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562720" y="4114800"/>
            <a:ext cx="2895480" cy="19227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  <a:ea typeface="Times New Roman (Hebrew)"/>
              </a:rPr>
              <a:t>GRBs are the best cosmological indicators known today for the early (z~5-10) univer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1523880"/>
            <a:ext cx="8686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GRBs are the brightest and most luminous objects known to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6172200"/>
            <a:ext cx="868680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GRBs are the most relativistic objects  known to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ole astrparticule OH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RB - 13/09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presentation of GRB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Ground vs. Space and prompt e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fterglow: physics of GR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fterglow: Cosmology with GR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Ground (with space) future prosp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ole astrparticule OH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RB - 13/09/07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7T07:18:33Z</dcterms:created>
  <dc:creator>Michel Boer</dc:creator>
  <dc:description/>
  <dc:language>en-US</dc:language>
  <cp:lastModifiedBy>Michel Boer</cp:lastModifiedBy>
  <dcterms:modified xsi:type="dcterms:W3CDTF">2007-09-13T15:00:28Z</dcterms:modified>
  <cp:revision>10</cp:revision>
  <dc:subject/>
  <dc:title>Les sursauts gamma</dc:title>
</cp:coreProperties>
</file>