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07A-771C-4177-A77A-B3FFEC4D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3EF-F859-4CA7-9347-BBACFF1F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0FC-1AA0-44B0-B32D-C947FD01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AF8-639B-49A8-9DB7-5D1D310E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CC7-4E6E-43CE-92FF-CC81F13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17E-DD9D-420A-B8E9-6C63CC4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2B6-DAB5-42A7-8F19-72D62DA0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646-71CA-4BA6-AB14-984118B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0F4-C407-47A9-B384-6BFA4BF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B83-2DFA-4246-B631-D0F5597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361-F4AD-4767-8023-CD357AE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240-7B40-49B6-B05D-7A0B76A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ff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6600ff"/>
                </a:solidFill>
                <a:latin typeface="Arial"/>
              </a:rPr>
              <a:t>B. </a:t>
            </a:r>
            <a:r>
              <a:rPr b="0" lang="fr-FR" sz="1400" spc="-1" strike="noStrike">
                <a:solidFill>
                  <a:srgbClr val="6600ff"/>
                </a:solidFill>
                <a:latin typeface="Times New Roman"/>
              </a:rPr>
              <a:t>Deg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&lt;footer&gt;</a:t>
            </a:r>
            <a:r>
              <a:rPr b="0" lang="en-US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École des Astroparti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6600ff"/>
                </a:solidFill>
                <a:latin typeface="Times New Roman"/>
              </a:rPr>
              <a:t>OHP,  Septembr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328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682-27F1-4DD6-92DF-CD606ED88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École des Astroparticules 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OHP, Septembre 2007)</a:t>
            </a:r>
            <a:br>
              <a:rPr sz="2800"/>
            </a:b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ésumé et perspective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ernard Degrange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oratoire Leprince-Ringuet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École polytechnique (Palaiseau)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64000" y="4292640"/>
            <a:ext cx="381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thématique de l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randes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moyens d’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A05-D75C-486E-9532-5DCEDE8FD9DE}" type="slidenum">
              <a:t>1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1. La thématique de l’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École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520" y="11444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u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phénomènes violen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ans l’Un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des objets qui en sont le siè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objets émettent des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photons sur tout le spectre électromagné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a radio jusqu’à plus de 100 T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s produisent d’autre particules :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protons et/ou noyaux jusqu’à 10</a:t>
            </a:r>
            <a:r>
              <a:rPr b="0" lang="fr-FR" sz="2400" spc="-1" strike="noStrike" baseline="30000">
                <a:solidFill>
                  <a:srgbClr val="6600ff"/>
                </a:solidFill>
                <a:latin typeface="Times New Roman"/>
              </a:rPr>
              <a:t>20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 eV, mais aussi vraisemblablement des neutri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parfois des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ondes gravitationnel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domaine où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l’instrumentation de la physique nucléaire et de la physique des particu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mise au service de l’astrophysique pour résoudre des problèmes parfois cente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14D-9A27-4756-A6F5-83BFE76A5E8C}" type="slidenum">
              <a:t>2</a:t>
            </a:fld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. Les grandes questions 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(2.a)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L’origine des rayons cosmiques (V. Hess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canismes d’accélération ? Accélération dans un plasma diffusif (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stochastique, par cho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c.)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G. Pellet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tes d’accélération ?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A. Marcowith, G. Henri, F. Da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endre le spectre et la composition des rayons cosmiques à la Terre : signification du (des)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geno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x), de la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chevil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?   Où commence la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contribution extra-galac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E. Pariz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endre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la propagation dans la Galax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s protons et des noyaux …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E. Pariz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s aussi des particules chargées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 minoritai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électrons, positons, antiproto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cf. origine exotique)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P. Sala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gine des particules d’énergies &gt; 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V ; vers une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astronomie des proto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E. Parizot, S. Vorobi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7FF-C969-4524-83EA-0B018A63276D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549360"/>
            <a:ext cx="8146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6600ff"/>
                </a:solidFill>
                <a:latin typeface="Times New Roman"/>
              </a:rPr>
              <a:t>(2.b) Les sites d’accélération : les « suspects » </a:t>
            </a:r>
            <a:br>
              <a:rPr sz="2800"/>
            </a:b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2.b.1 Les objets compacts </a:t>
            </a:r>
            <a:br>
              <a:rPr sz="2800"/>
            </a:b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(étoiles à neutrons et trous noirs) </a:t>
            </a:r>
            <a:br>
              <a:rPr sz="2800"/>
            </a:b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et leur environnement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G.Henri)</a:t>
            </a: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crétion/éjection :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disques et je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ancement des j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ogi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noyaux actifs de galaxie-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microquas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 (lois d’échelle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es des émissions non thermiques (systèmes binaires X e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noyaux actifs de galaxies, particulièrement les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laz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onnem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haute énergie :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ssus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eptoniqu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ton inverse) ou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hadron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? Solutions possibles avec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GLAS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haute énergie) ou dans l’avenir avec 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’astronomie des neutrino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AAA-A45B-4C05-B212-CA7B427CA902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(2.b) Les sites d’accélération : les « suspects » 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.b.2 Les phénomènes explosifs et leurs conséquen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estiges de supern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 et vents → superbulles        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. Marcowith, M. Lemoine-Goum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stiges de supernovæ en coquill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ulsars et nébuleuses de pulsars (ou plérions)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nts d’étoiles massives (Wolf-Rayet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uts gamma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F. Daigne, M. Boë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rsauts courts ↔ Sursauts long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alescences de binaires ↔ Effondrements d’étoiles massives (hypernovæ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as d’association à une supernova, faut-il généraliser ?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terprétation de l’émission rémanente ?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handelles standards pour la Cosmologie ?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FDE-8FC7-4BC3-9167-4F89A962FA01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520" y="260280"/>
            <a:ext cx="785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(2.c) Particules d’origine exotique : </a:t>
            </a:r>
            <a:br>
              <a:rPr sz="2800"/>
            </a:b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signatures de la présence de matière noire 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« bestiaire » des théoriciens : neutralinos, particules de Kaluza-Klein et autres «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PS », « CHAMPS », « Wimpzillas 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c.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(J. Orl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urces astrophysiques exotiques et possibilités de détection indirecte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P. Salati, J. Lavalle)</a:t>
            </a:r>
            <a:r>
              <a:rPr b="0" i="1" lang="fr-FR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Centre Galactique (</a:t>
            </a:r>
            <a:r>
              <a:rPr b="0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Galaxies naines sphéroïdales proches (</a:t>
            </a:r>
            <a:r>
              <a:rPr b="0" lang="el-G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Spectres anormaux des antiprotons et/ou des e</a:t>
            </a:r>
            <a:r>
              <a:rPr b="0" lang="fr-FR" sz="2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Capture de matière noire par le Soleil ou la Terre (neutrinos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0D9-4B73-406A-9768-C2638A57FC55}" type="slidenum">
              <a:t>6</a:t>
            </a:fld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. Les moyens d’observation 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(3.a)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Astronomie photonique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1520" y="1341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ayonnements non thermiques émettent sur tout le spectre </a:t>
            </a:r>
            <a:r>
              <a:rPr b="0" lang="fr-FR" sz="2000" spc="-1" strike="noStrike">
                <a:solidFill>
                  <a:srgbClr val="ff0066"/>
                </a:solidFill>
                <a:latin typeface="Times New Roman"/>
              </a:rPr>
              <a:t>Toute l’astronomie de la radio au domaine </a:t>
            </a:r>
            <a:r>
              <a:rPr b="0" lang="el-GR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γ</a:t>
            </a:r>
            <a:r>
              <a:rPr b="0" lang="fr-FR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0066"/>
                </a:solidFill>
                <a:latin typeface="Times New Roman"/>
              </a:rPr>
              <a:t>est mise à con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yons X (satellit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mous (E&lt; 10 keV) XMM-Newton, Chandr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durs (10 keV &lt; E &lt; 1 MeV) INTEGRA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Sursauts </a:t>
            </a:r>
            <a:r>
              <a:rPr b="0" lang="el-G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M. Boër)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HETE2, SWIFT → SVOM                                </a:t>
            </a:r>
            <a:r>
              <a:rPr b="0" lang="fr-FR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+ suivi sol :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ROTSE, TAROT etc.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Futur : vols en formation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→ SIMBOL-X 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focalise →70 keV) et lentille gamma (Gamma-Ray Imager) pour l’astrophysique nucléaire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mma de haute énergie 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tellites AGILE 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LAS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Ph. Bru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mma de très haute énergie :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M. de Naurois et  M. Lemoine-Goum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Télescopes Tcherenkov atmosphériques H.E.S.S. et MAGIC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Détecteurs synoptiques : MILAGRO, Tibet, ARGO</a:t>
            </a:r>
            <a:r>
              <a:rPr b="0" lang="fr-FR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HAWK</a:t>
            </a: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Futur : grand réseau de télescopes Tcherenkov atmosphériques CT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FAE-57EE-426D-814B-B95C4D4149AB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ff"/>
                </a:solidFill>
                <a:latin typeface="Times New Roman"/>
              </a:rPr>
              <a:t>(3.b)</a:t>
            </a:r>
            <a:r>
              <a:rPr b="0" lang="fr-FR" sz="3200" spc="-1" strike="noStrike">
                <a:solidFill>
                  <a:srgbClr val="6600ff"/>
                </a:solidFill>
                <a:latin typeface="Times New Roman"/>
              </a:rPr>
              <a:t> Nouvelles astronomies</a:t>
            </a:r>
            <a:br>
              <a:rPr sz="3200"/>
            </a:b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M. de Naurois)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yons cosmiques charg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En-dessous du « genou »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P. Brun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</a:rPr>
              <a:t>AMS-02 en-dessous du TeV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</a:rPr>
              <a:t>CREAM entre 1 TeV et 500 TeV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Aux énergies &gt; 10</a:t>
            </a:r>
            <a:r>
              <a:rPr b="0" lang="fr-FR" sz="1800" spc="-1" strike="noStrike" baseline="30000">
                <a:solidFill>
                  <a:srgbClr val="0000cc"/>
                </a:solidFill>
                <a:latin typeface="Times New Roman"/>
              </a:rPr>
              <a:t>19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 eV : astronomie de protons ?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S. Vorobiov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</a:rPr>
              <a:t>Observatoire P. Auger (S </a:t>
            </a:r>
            <a:r>
              <a:rPr b="0" lang="fr-FR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→ N) 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mélioration Auger : réseau dense et détecteurs de muons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utur : Détection par radio (CODALEMA, LOPES). Détection depuis l’espace ? 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J. Brun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ff"/>
                </a:solidFill>
                <a:latin typeface="Times New Roman"/>
              </a:rPr>
              <a:t>100 GeV-100 TeV :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</a:rPr>
              <a:t>AMANDA </a:t>
            </a:r>
            <a:r>
              <a:rPr b="0" lang="fr-FR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→ Ice Cube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Times New Roman"/>
              </a:rPr>
              <a:t>ANTARES </a:t>
            </a:r>
            <a:r>
              <a:rPr b="0" lang="fr-FR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→ Km3Net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Domaine du PeV : détection radio ou acoustiqu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des gravitationnelles </a:t>
            </a:r>
            <a:r>
              <a:rPr b="0" i="1" lang="fr-FR" sz="2000" spc="-1" strike="noStrike">
                <a:solidFill>
                  <a:srgbClr val="a50021"/>
                </a:solidFill>
                <a:latin typeface="Times New Roman"/>
              </a:rPr>
              <a:t>(D. Busku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Virgo, LIGO 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→</a:t>
            </a: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 leurs versions « avancées », GEO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Futur : à partir de l’espace LISA (3  satellites en formation)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1E0-4458-4128-A416-D2A3E96CE871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. Conclusion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école a  fourni un panorama global d’une discipline jeune et promette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Moisson de résultats récents en astronomies X et </a:t>
            </a:r>
            <a:r>
              <a:rPr b="0" lang="el-G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tamment INTEGRAL, H.E.S.S. (prix Descartes)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grès sur les sursauts gamma (HETE2, SWIFT)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ccès récents en instrumentation : ANTARES, Virgo, Obs. P. Auger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poirs pour les prochaines anné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Renouvellement du PID « Astroparticules » du CNRS et du GdR </a:t>
            </a:r>
            <a:r>
              <a:rPr b="0" lang="fr-FR" sz="1600" spc="-1" strike="noStrike">
                <a:solidFill>
                  <a:srgbClr val="0000cc"/>
                </a:solidFill>
                <a:latin typeface="Times New Roman"/>
              </a:rPr>
              <a:t>PCHE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Meilleure synergie des communautés (Astro/Particules/Théorie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écessité d’une réflexion pour la formation de jeunes chercheurs dans ce domaine interdisciplinai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Times New Roman"/>
              </a:rPr>
              <a:t>Renouveler la présente école à l’OHP (tous les 2 ans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9D3-4EB1-4D36-83AD-A1B839ED5E56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2:48:05Z</dcterms:created>
  <dc:creator>DEGRANGE</dc:creator>
  <dc:description/>
  <dc:language>en-US</dc:language>
  <cp:lastModifiedBy>DEGRANGE</cp:lastModifiedBy>
  <dcterms:modified xsi:type="dcterms:W3CDTF">2007-09-17T10:04:29Z</dcterms:modified>
  <cp:revision>28</cp:revision>
  <dc:subject/>
  <dc:title>Diapositive 1</dc:title>
</cp:coreProperties>
</file>