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73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6.png" ContentType="image/png"/>
  <Override PartName="/ppt/media/image103.png" ContentType="image/png"/>
  <Override PartName="/ppt/media/image97.png" ContentType="image/png"/>
  <Override PartName="/ppt/media/image104.png" ContentType="image/png"/>
  <Override PartName="/ppt/media/image74.pct" ContentType="image/x-pict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95.png" ContentType="image/png"/>
  <Override PartName="/ppt/media/image102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89.png" ContentType="image/png"/>
  <Override PartName="/ppt/media/image111.png" ContentType="image/png"/>
  <Override PartName="/ppt/media/image112.png" ContentType="image/png"/>
  <Override PartName="/ppt/media/image108.jpeg" ContentType="image/jpeg"/>
  <Override PartName="/ppt/media/image107.jpeg" ContentType="image/jpe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.pct" ContentType="image/x-pict"/>
  <Override PartName="/ppt/media/image34.png" ContentType="image/png"/>
  <Override PartName="/ppt/media/image16.png" ContentType="image/png"/>
  <Override PartName="/ppt/media/image4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25.png" ContentType="image/png"/>
  <Override PartName="/ppt/media/image9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DF9-FD18-4655-A617-DC71B4C8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642-F95E-4B73-BCFA-671479F5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50A-C2A8-4E77-91D5-82E7CA03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ED6-4DFB-4F03-9E35-7D3B7108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41A-7660-412E-BFB9-CD5FCB8E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AE3-FC0E-4A27-BEAC-50F1B1E5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042-5351-4A33-8EEE-3023262B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726-9ABF-49FF-993A-18CE9E5A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B94-C50B-4CD8-94D3-567A1F38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893-DBD7-471D-B53A-57983C05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1C0-94CE-47F8-AF13-9A3ABBAA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466-46B7-443F-B7EF-8CCB0B05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02EB-B1F8-4915-BF72-EE52882CA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ct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image" Target="../media/image114.png"/><Relationship Id="rId6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ccélération de Fe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ar Guy Pelle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Laboratoire d’Astrophysique de Greno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École de Physique des Astroparticules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bservatoire de Haute Prov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t ces spectres sont-ils maintenu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s équilibre thermodynam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2240" y="2316240"/>
            <a:ext cx="66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Allongement des libres parcours moyens collisionnels 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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  E</a:t>
            </a:r>
            <a:r>
              <a:rPr b="0" lang="fr-FR" sz="2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124080"/>
            <a:ext cx="7140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interactions plus efficaces avec perturbations électromagné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-microturbulence du plasma amb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-macroturbulence: grandes pertubations magnétiques se        propageant à des vitesses généralement &lt;&lt;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1880" y="4952880"/>
            <a:ext cx="35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ibles magnétiques mouvant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00600" y="4952880"/>
            <a:ext cx="2666880" cy="567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95280" y="563868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hamp magnétique statique dans le référentiel d’un mode </a:t>
            </a:r>
            <a:r>
              <a:rPr b="0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conservation de l’énergie dans ce réf, simple déviation de l’impul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Quel processus d’accélé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hamp électrique de type électrostatiq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uls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Reconnection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omposante parallè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Microturbulence de Langmuir      Ondes magnéto-so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ourquoi les processus de Fermi sont ils privilégié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4146480" cy="542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236880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2971800" cy="71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038480" y="3048120"/>
            <a:ext cx="2870280" cy="34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971800" y="5486400"/>
            <a:ext cx="29718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ain d’énergie par diffusion élastiqu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ne cible mouv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048120" cy="43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092240" cy="397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62720" y="3200400"/>
            <a:ext cx="2832120" cy="426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876920" y="4114800"/>
            <a:ext cx="2590560" cy="372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419720" y="4724280"/>
            <a:ext cx="4051080" cy="45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133720" y="5410080"/>
            <a:ext cx="4343400" cy="50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304920" y="2117880"/>
            <a:ext cx="3962160" cy="371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84640" y="289548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Diffusion élastique 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5880" y="43434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Variation d’énergie dans réf ob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95680" y="6019920"/>
            <a:ext cx="22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Variation 1</a:t>
            </a:r>
            <a:r>
              <a:rPr b="0" lang="fr-FR" sz="2000" spc="-1" strike="noStrike" baseline="30000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ordre </a:t>
            </a:r>
            <a:r>
              <a:rPr b="0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97880" y="6031080"/>
            <a:ext cx="178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Gain 2</a:t>
            </a:r>
            <a:r>
              <a:rPr b="0" lang="fr-FR" sz="20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cessus de Fermi du 2nd or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137160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4920" y="1716120"/>
            <a:ext cx="3200400" cy="372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2209680" cy="443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638680" y="2935440"/>
            <a:ext cx="2514600" cy="636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562720" y="3809880"/>
            <a:ext cx="2819160" cy="66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600200" y="5410080"/>
            <a:ext cx="6248520" cy="784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70360" y="17287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modè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560" y="22860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modè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9800" y="289548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Fréquence de coll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66320" y="353700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0" lang="fr-FR" sz="18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0" lang="fr-FR" sz="1800" spc="-1" strike="noStrike">
                <a:solidFill>
                  <a:srgbClr val="009999"/>
                </a:solidFill>
                <a:latin typeface="Times New Roman"/>
              </a:rPr>
              <a:t> par 2 pour modèle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48690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Équation de Fokker-Planck décrit évolution de la densité de proba de l’énergi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cessus de Fermi du 2nd ordre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(su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2021040"/>
            <a:ext cx="2641320" cy="668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2666880" cy="614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105520" y="4133880"/>
            <a:ext cx="2832120" cy="590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09480" y="5073480"/>
            <a:ext cx="2286000" cy="615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419720" y="5638680"/>
            <a:ext cx="3276360" cy="604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8880" y="1905120"/>
            <a:ext cx="26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mple dif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ans l’espace des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1320" y="3733920"/>
            <a:ext cx="40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roissance du coeff de diffusion en 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sure un gain systé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905120" y="2895480"/>
            <a:ext cx="261612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ermi du 2</a:t>
            </a:r>
            <a:r>
              <a:rPr b="0" lang="en-US" sz="3200" spc="-1" strike="noStrike" baseline="30000">
                <a:solidFill>
                  <a:srgbClr val="33339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ordre et ondes d’Alfv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371600" cy="328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2362320" cy="708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1562040" cy="453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733920" y="3124080"/>
            <a:ext cx="4038480" cy="750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809880" y="5029200"/>
            <a:ext cx="3276720" cy="738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6477120" y="4038480"/>
            <a:ext cx="1295280" cy="38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1676520"/>
            <a:ext cx="36576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Onde d’Alfvén (électromagnétique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ébranlement magné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de vitesse de propagation V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0200" y="4232160"/>
            <a:ext cx="296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raction résonante 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~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39360" y="3263760"/>
            <a:ext cx="9122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i r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9999"/>
                </a:solidFill>
                <a:latin typeface="Brush Script MT"/>
              </a:rPr>
              <a:t>l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4038480"/>
            <a:ext cx="99036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i r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009999"/>
                </a:solidFill>
                <a:latin typeface="Brush Script MT"/>
              </a:rPr>
              <a:t>l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0640" y="518148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imes New Roman"/>
              </a:rPr>
              <a:t>Formule général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imes New Roman"/>
              </a:rPr>
              <a:t>(F. Casse, M. Lemoine, G.P., 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01000" cy="5653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63280" y="38088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cattering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66000" y="323064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1/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oc non-relativ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0560" y="1676520"/>
            <a:ext cx="4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coulement supersonique nb de Mach: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2819520"/>
            <a:ext cx="0" cy="2666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78080" y="45687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819520"/>
            <a:ext cx="2743200" cy="2743200"/>
          </a:xfrm>
          <a:custGeom>
            <a:avLst/>
            <a:gdLst/>
            <a:ahLst/>
            <a:rect l="l" t="t" r="r" b="b"/>
            <a:pathLst>
              <a:path w="978" h="1069">
                <a:moveTo>
                  <a:pt x="69" y="1069"/>
                </a:moveTo>
                <a:cubicBezTo>
                  <a:pt x="23" y="1040"/>
                  <a:pt x="0" y="975"/>
                  <a:pt x="69" y="950"/>
                </a:cubicBezTo>
                <a:cubicBezTo>
                  <a:pt x="111" y="959"/>
                  <a:pt x="158" y="950"/>
                  <a:pt x="197" y="969"/>
                </a:cubicBezTo>
                <a:cubicBezTo>
                  <a:pt x="206" y="973"/>
                  <a:pt x="194" y="989"/>
                  <a:pt x="187" y="996"/>
                </a:cubicBezTo>
                <a:cubicBezTo>
                  <a:pt x="180" y="1003"/>
                  <a:pt x="169" y="1002"/>
                  <a:pt x="160" y="1005"/>
                </a:cubicBezTo>
                <a:cubicBezTo>
                  <a:pt x="145" y="1002"/>
                  <a:pt x="118" y="1011"/>
                  <a:pt x="114" y="996"/>
                </a:cubicBezTo>
                <a:cubicBezTo>
                  <a:pt x="86" y="891"/>
                  <a:pt x="148" y="799"/>
                  <a:pt x="242" y="768"/>
                </a:cubicBezTo>
                <a:cubicBezTo>
                  <a:pt x="254" y="771"/>
                  <a:pt x="269" y="769"/>
                  <a:pt x="279" y="777"/>
                </a:cubicBezTo>
                <a:cubicBezTo>
                  <a:pt x="297" y="791"/>
                  <a:pt x="283" y="854"/>
                  <a:pt x="279" y="859"/>
                </a:cubicBezTo>
                <a:cubicBezTo>
                  <a:pt x="272" y="869"/>
                  <a:pt x="254" y="865"/>
                  <a:pt x="242" y="868"/>
                </a:cubicBezTo>
                <a:cubicBezTo>
                  <a:pt x="187" y="854"/>
                  <a:pt x="201" y="848"/>
                  <a:pt x="187" y="795"/>
                </a:cubicBezTo>
                <a:cubicBezTo>
                  <a:pt x="203" y="753"/>
                  <a:pt x="264" y="699"/>
                  <a:pt x="306" y="685"/>
                </a:cubicBezTo>
                <a:cubicBezTo>
                  <a:pt x="340" y="689"/>
                  <a:pt x="383" y="680"/>
                  <a:pt x="407" y="704"/>
                </a:cubicBezTo>
                <a:cubicBezTo>
                  <a:pt x="421" y="718"/>
                  <a:pt x="423" y="741"/>
                  <a:pt x="434" y="758"/>
                </a:cubicBezTo>
                <a:cubicBezTo>
                  <a:pt x="418" y="807"/>
                  <a:pt x="407" y="797"/>
                  <a:pt x="361" y="786"/>
                </a:cubicBezTo>
                <a:cubicBezTo>
                  <a:pt x="348" y="746"/>
                  <a:pt x="347" y="695"/>
                  <a:pt x="370" y="658"/>
                </a:cubicBezTo>
                <a:cubicBezTo>
                  <a:pt x="379" y="643"/>
                  <a:pt x="391" y="629"/>
                  <a:pt x="407" y="621"/>
                </a:cubicBezTo>
                <a:cubicBezTo>
                  <a:pt x="424" y="612"/>
                  <a:pt x="462" y="603"/>
                  <a:pt x="462" y="603"/>
                </a:cubicBezTo>
                <a:cubicBezTo>
                  <a:pt x="483" y="606"/>
                  <a:pt x="506" y="603"/>
                  <a:pt x="526" y="612"/>
                </a:cubicBezTo>
                <a:cubicBezTo>
                  <a:pt x="575" y="634"/>
                  <a:pt x="525" y="673"/>
                  <a:pt x="507" y="685"/>
                </a:cubicBezTo>
                <a:cubicBezTo>
                  <a:pt x="504" y="676"/>
                  <a:pt x="496" y="667"/>
                  <a:pt x="498" y="658"/>
                </a:cubicBezTo>
                <a:cubicBezTo>
                  <a:pt x="500" y="649"/>
                  <a:pt x="512" y="647"/>
                  <a:pt x="517" y="640"/>
                </a:cubicBezTo>
                <a:cubicBezTo>
                  <a:pt x="524" y="631"/>
                  <a:pt x="526" y="618"/>
                  <a:pt x="535" y="612"/>
                </a:cubicBezTo>
                <a:cubicBezTo>
                  <a:pt x="577" y="585"/>
                  <a:pt x="669" y="573"/>
                  <a:pt x="718" y="557"/>
                </a:cubicBezTo>
                <a:cubicBezTo>
                  <a:pt x="724" y="553"/>
                  <a:pt x="769" y="528"/>
                  <a:pt x="763" y="512"/>
                </a:cubicBezTo>
                <a:cubicBezTo>
                  <a:pt x="758" y="499"/>
                  <a:pt x="739" y="499"/>
                  <a:pt x="727" y="493"/>
                </a:cubicBezTo>
                <a:cubicBezTo>
                  <a:pt x="726" y="489"/>
                  <a:pt x="715" y="444"/>
                  <a:pt x="699" y="448"/>
                </a:cubicBezTo>
                <a:cubicBezTo>
                  <a:pt x="688" y="451"/>
                  <a:pt x="687" y="466"/>
                  <a:pt x="681" y="475"/>
                </a:cubicBezTo>
                <a:cubicBezTo>
                  <a:pt x="682" y="480"/>
                  <a:pt x="690" y="559"/>
                  <a:pt x="699" y="566"/>
                </a:cubicBezTo>
                <a:cubicBezTo>
                  <a:pt x="715" y="577"/>
                  <a:pt x="754" y="585"/>
                  <a:pt x="754" y="585"/>
                </a:cubicBezTo>
                <a:cubicBezTo>
                  <a:pt x="788" y="617"/>
                  <a:pt x="806" y="598"/>
                  <a:pt x="846" y="585"/>
                </a:cubicBezTo>
                <a:cubicBezTo>
                  <a:pt x="923" y="504"/>
                  <a:pt x="898" y="371"/>
                  <a:pt x="800" y="338"/>
                </a:cubicBezTo>
                <a:cubicBezTo>
                  <a:pt x="788" y="341"/>
                  <a:pt x="773" y="339"/>
                  <a:pt x="763" y="347"/>
                </a:cubicBezTo>
                <a:cubicBezTo>
                  <a:pt x="748" y="359"/>
                  <a:pt x="755" y="401"/>
                  <a:pt x="763" y="411"/>
                </a:cubicBezTo>
                <a:cubicBezTo>
                  <a:pt x="769" y="419"/>
                  <a:pt x="782" y="417"/>
                  <a:pt x="791" y="420"/>
                </a:cubicBezTo>
                <a:cubicBezTo>
                  <a:pt x="800" y="426"/>
                  <a:pt x="808" y="434"/>
                  <a:pt x="818" y="438"/>
                </a:cubicBezTo>
                <a:cubicBezTo>
                  <a:pt x="836" y="446"/>
                  <a:pt x="873" y="457"/>
                  <a:pt x="873" y="457"/>
                </a:cubicBezTo>
                <a:cubicBezTo>
                  <a:pt x="900" y="454"/>
                  <a:pt x="932" y="463"/>
                  <a:pt x="955" y="448"/>
                </a:cubicBezTo>
                <a:cubicBezTo>
                  <a:pt x="971" y="438"/>
                  <a:pt x="974" y="393"/>
                  <a:pt x="974" y="393"/>
                </a:cubicBezTo>
                <a:cubicBezTo>
                  <a:pt x="970" y="364"/>
                  <a:pt x="978" y="326"/>
                  <a:pt x="946" y="310"/>
                </a:cubicBezTo>
                <a:cubicBezTo>
                  <a:pt x="929" y="301"/>
                  <a:pt x="891" y="292"/>
                  <a:pt x="891" y="292"/>
                </a:cubicBezTo>
                <a:cubicBezTo>
                  <a:pt x="864" y="295"/>
                  <a:pt x="835" y="294"/>
                  <a:pt x="809" y="301"/>
                </a:cubicBezTo>
                <a:cubicBezTo>
                  <a:pt x="801" y="303"/>
                  <a:pt x="799" y="316"/>
                  <a:pt x="791" y="320"/>
                </a:cubicBezTo>
                <a:cubicBezTo>
                  <a:pt x="774" y="329"/>
                  <a:pt x="754" y="332"/>
                  <a:pt x="736" y="338"/>
                </a:cubicBezTo>
                <a:cubicBezTo>
                  <a:pt x="727" y="341"/>
                  <a:pt x="709" y="347"/>
                  <a:pt x="709" y="347"/>
                </a:cubicBezTo>
                <a:cubicBezTo>
                  <a:pt x="700" y="344"/>
                  <a:pt x="685" y="347"/>
                  <a:pt x="681" y="338"/>
                </a:cubicBezTo>
                <a:cubicBezTo>
                  <a:pt x="677" y="329"/>
                  <a:pt x="685" y="318"/>
                  <a:pt x="690" y="310"/>
                </a:cubicBezTo>
                <a:cubicBezTo>
                  <a:pt x="695" y="303"/>
                  <a:pt x="718" y="292"/>
                  <a:pt x="709" y="292"/>
                </a:cubicBezTo>
                <a:cubicBezTo>
                  <a:pt x="692" y="292"/>
                  <a:pt x="649" y="338"/>
                  <a:pt x="635" y="347"/>
                </a:cubicBezTo>
                <a:cubicBezTo>
                  <a:pt x="625" y="346"/>
                  <a:pt x="430" y="360"/>
                  <a:pt x="535" y="292"/>
                </a:cubicBezTo>
                <a:cubicBezTo>
                  <a:pt x="541" y="283"/>
                  <a:pt x="542" y="265"/>
                  <a:pt x="553" y="265"/>
                </a:cubicBezTo>
                <a:cubicBezTo>
                  <a:pt x="562" y="265"/>
                  <a:pt x="551" y="285"/>
                  <a:pt x="544" y="292"/>
                </a:cubicBezTo>
                <a:cubicBezTo>
                  <a:pt x="537" y="299"/>
                  <a:pt x="526" y="298"/>
                  <a:pt x="517" y="301"/>
                </a:cubicBezTo>
                <a:cubicBezTo>
                  <a:pt x="455" y="343"/>
                  <a:pt x="379" y="346"/>
                  <a:pt x="306" y="356"/>
                </a:cubicBezTo>
                <a:cubicBezTo>
                  <a:pt x="241" y="348"/>
                  <a:pt x="228" y="351"/>
                  <a:pt x="187" y="310"/>
                </a:cubicBezTo>
                <a:cubicBezTo>
                  <a:pt x="160" y="229"/>
                  <a:pt x="166" y="245"/>
                  <a:pt x="215" y="182"/>
                </a:cubicBezTo>
                <a:cubicBezTo>
                  <a:pt x="222" y="173"/>
                  <a:pt x="225" y="163"/>
                  <a:pt x="233" y="155"/>
                </a:cubicBezTo>
                <a:cubicBezTo>
                  <a:pt x="238" y="150"/>
                  <a:pt x="277" y="131"/>
                  <a:pt x="279" y="118"/>
                </a:cubicBezTo>
                <a:cubicBezTo>
                  <a:pt x="284" y="79"/>
                  <a:pt x="279" y="39"/>
                  <a:pt x="279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9625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44197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3434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3360" y="48006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2320" y="3946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99cc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3280" y="228600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rapport de compression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6160" y="342900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hoc fort adiabatique :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3962520"/>
            <a:ext cx="41148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onversion énergie cinétique amo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n énergie cinétique résidu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subsonique), pression av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hermique + non-thermique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hamp magnétique ampl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920" y="34894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99cc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286000" cy="322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3416400" cy="362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467480" y="3505320"/>
            <a:ext cx="939960" cy="255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5800" y="32004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1800" y="3192480"/>
            <a:ext cx="66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99cc00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5280" y="3581280"/>
            <a:ext cx="3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99cc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124080" y="5715000"/>
            <a:ext cx="273060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257800" y="38098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incipe de l’accélération de Fermi en un ch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5080" y="1965240"/>
            <a:ext cx="73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coulement supersonique charriant des irrégularités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819520"/>
            <a:ext cx="0" cy="2666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78080" y="45687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819520"/>
            <a:ext cx="2743200" cy="2743200"/>
          </a:xfrm>
          <a:custGeom>
            <a:avLst/>
            <a:gdLst/>
            <a:ahLst/>
            <a:rect l="l" t="t" r="r" b="b"/>
            <a:pathLst>
              <a:path w="978" h="1069">
                <a:moveTo>
                  <a:pt x="69" y="1069"/>
                </a:moveTo>
                <a:cubicBezTo>
                  <a:pt x="23" y="1040"/>
                  <a:pt x="0" y="975"/>
                  <a:pt x="69" y="950"/>
                </a:cubicBezTo>
                <a:cubicBezTo>
                  <a:pt x="111" y="959"/>
                  <a:pt x="158" y="950"/>
                  <a:pt x="197" y="969"/>
                </a:cubicBezTo>
                <a:cubicBezTo>
                  <a:pt x="206" y="973"/>
                  <a:pt x="194" y="989"/>
                  <a:pt x="187" y="996"/>
                </a:cubicBezTo>
                <a:cubicBezTo>
                  <a:pt x="180" y="1003"/>
                  <a:pt x="169" y="1002"/>
                  <a:pt x="160" y="1005"/>
                </a:cubicBezTo>
                <a:cubicBezTo>
                  <a:pt x="145" y="1002"/>
                  <a:pt x="118" y="1011"/>
                  <a:pt x="114" y="996"/>
                </a:cubicBezTo>
                <a:cubicBezTo>
                  <a:pt x="86" y="891"/>
                  <a:pt x="148" y="799"/>
                  <a:pt x="242" y="768"/>
                </a:cubicBezTo>
                <a:cubicBezTo>
                  <a:pt x="254" y="771"/>
                  <a:pt x="269" y="769"/>
                  <a:pt x="279" y="777"/>
                </a:cubicBezTo>
                <a:cubicBezTo>
                  <a:pt x="297" y="791"/>
                  <a:pt x="283" y="854"/>
                  <a:pt x="279" y="859"/>
                </a:cubicBezTo>
                <a:cubicBezTo>
                  <a:pt x="272" y="869"/>
                  <a:pt x="254" y="865"/>
                  <a:pt x="242" y="868"/>
                </a:cubicBezTo>
                <a:cubicBezTo>
                  <a:pt x="187" y="854"/>
                  <a:pt x="201" y="848"/>
                  <a:pt x="187" y="795"/>
                </a:cubicBezTo>
                <a:cubicBezTo>
                  <a:pt x="203" y="753"/>
                  <a:pt x="264" y="699"/>
                  <a:pt x="306" y="685"/>
                </a:cubicBezTo>
                <a:cubicBezTo>
                  <a:pt x="340" y="689"/>
                  <a:pt x="383" y="680"/>
                  <a:pt x="407" y="704"/>
                </a:cubicBezTo>
                <a:cubicBezTo>
                  <a:pt x="421" y="718"/>
                  <a:pt x="423" y="741"/>
                  <a:pt x="434" y="758"/>
                </a:cubicBezTo>
                <a:cubicBezTo>
                  <a:pt x="418" y="807"/>
                  <a:pt x="407" y="797"/>
                  <a:pt x="361" y="786"/>
                </a:cubicBezTo>
                <a:cubicBezTo>
                  <a:pt x="348" y="746"/>
                  <a:pt x="347" y="695"/>
                  <a:pt x="370" y="658"/>
                </a:cubicBezTo>
                <a:cubicBezTo>
                  <a:pt x="379" y="643"/>
                  <a:pt x="391" y="629"/>
                  <a:pt x="407" y="621"/>
                </a:cubicBezTo>
                <a:cubicBezTo>
                  <a:pt x="424" y="612"/>
                  <a:pt x="462" y="603"/>
                  <a:pt x="462" y="603"/>
                </a:cubicBezTo>
                <a:cubicBezTo>
                  <a:pt x="483" y="606"/>
                  <a:pt x="506" y="603"/>
                  <a:pt x="526" y="612"/>
                </a:cubicBezTo>
                <a:cubicBezTo>
                  <a:pt x="575" y="634"/>
                  <a:pt x="525" y="673"/>
                  <a:pt x="507" y="685"/>
                </a:cubicBezTo>
                <a:cubicBezTo>
                  <a:pt x="504" y="676"/>
                  <a:pt x="496" y="667"/>
                  <a:pt x="498" y="658"/>
                </a:cubicBezTo>
                <a:cubicBezTo>
                  <a:pt x="500" y="649"/>
                  <a:pt x="512" y="647"/>
                  <a:pt x="517" y="640"/>
                </a:cubicBezTo>
                <a:cubicBezTo>
                  <a:pt x="524" y="631"/>
                  <a:pt x="526" y="618"/>
                  <a:pt x="535" y="612"/>
                </a:cubicBezTo>
                <a:cubicBezTo>
                  <a:pt x="577" y="585"/>
                  <a:pt x="669" y="573"/>
                  <a:pt x="718" y="557"/>
                </a:cubicBezTo>
                <a:cubicBezTo>
                  <a:pt x="724" y="553"/>
                  <a:pt x="769" y="528"/>
                  <a:pt x="763" y="512"/>
                </a:cubicBezTo>
                <a:cubicBezTo>
                  <a:pt x="758" y="499"/>
                  <a:pt x="739" y="499"/>
                  <a:pt x="727" y="493"/>
                </a:cubicBezTo>
                <a:cubicBezTo>
                  <a:pt x="726" y="489"/>
                  <a:pt x="715" y="444"/>
                  <a:pt x="699" y="448"/>
                </a:cubicBezTo>
                <a:cubicBezTo>
                  <a:pt x="688" y="451"/>
                  <a:pt x="687" y="466"/>
                  <a:pt x="681" y="475"/>
                </a:cubicBezTo>
                <a:cubicBezTo>
                  <a:pt x="682" y="480"/>
                  <a:pt x="690" y="559"/>
                  <a:pt x="699" y="566"/>
                </a:cubicBezTo>
                <a:cubicBezTo>
                  <a:pt x="715" y="577"/>
                  <a:pt x="754" y="585"/>
                  <a:pt x="754" y="585"/>
                </a:cubicBezTo>
                <a:cubicBezTo>
                  <a:pt x="788" y="617"/>
                  <a:pt x="806" y="598"/>
                  <a:pt x="846" y="585"/>
                </a:cubicBezTo>
                <a:cubicBezTo>
                  <a:pt x="923" y="504"/>
                  <a:pt x="898" y="371"/>
                  <a:pt x="800" y="338"/>
                </a:cubicBezTo>
                <a:cubicBezTo>
                  <a:pt x="788" y="341"/>
                  <a:pt x="773" y="339"/>
                  <a:pt x="763" y="347"/>
                </a:cubicBezTo>
                <a:cubicBezTo>
                  <a:pt x="748" y="359"/>
                  <a:pt x="755" y="401"/>
                  <a:pt x="763" y="411"/>
                </a:cubicBezTo>
                <a:cubicBezTo>
                  <a:pt x="769" y="419"/>
                  <a:pt x="782" y="417"/>
                  <a:pt x="791" y="420"/>
                </a:cubicBezTo>
                <a:cubicBezTo>
                  <a:pt x="800" y="426"/>
                  <a:pt x="808" y="434"/>
                  <a:pt x="818" y="438"/>
                </a:cubicBezTo>
                <a:cubicBezTo>
                  <a:pt x="836" y="446"/>
                  <a:pt x="873" y="457"/>
                  <a:pt x="873" y="457"/>
                </a:cubicBezTo>
                <a:cubicBezTo>
                  <a:pt x="900" y="454"/>
                  <a:pt x="932" y="463"/>
                  <a:pt x="955" y="448"/>
                </a:cubicBezTo>
                <a:cubicBezTo>
                  <a:pt x="971" y="438"/>
                  <a:pt x="974" y="393"/>
                  <a:pt x="974" y="393"/>
                </a:cubicBezTo>
                <a:cubicBezTo>
                  <a:pt x="970" y="364"/>
                  <a:pt x="978" y="326"/>
                  <a:pt x="946" y="310"/>
                </a:cubicBezTo>
                <a:cubicBezTo>
                  <a:pt x="929" y="301"/>
                  <a:pt x="891" y="292"/>
                  <a:pt x="891" y="292"/>
                </a:cubicBezTo>
                <a:cubicBezTo>
                  <a:pt x="864" y="295"/>
                  <a:pt x="835" y="294"/>
                  <a:pt x="809" y="301"/>
                </a:cubicBezTo>
                <a:cubicBezTo>
                  <a:pt x="801" y="303"/>
                  <a:pt x="799" y="316"/>
                  <a:pt x="791" y="320"/>
                </a:cubicBezTo>
                <a:cubicBezTo>
                  <a:pt x="774" y="329"/>
                  <a:pt x="754" y="332"/>
                  <a:pt x="736" y="338"/>
                </a:cubicBezTo>
                <a:cubicBezTo>
                  <a:pt x="727" y="341"/>
                  <a:pt x="709" y="347"/>
                  <a:pt x="709" y="347"/>
                </a:cubicBezTo>
                <a:cubicBezTo>
                  <a:pt x="700" y="344"/>
                  <a:pt x="685" y="347"/>
                  <a:pt x="681" y="338"/>
                </a:cubicBezTo>
                <a:cubicBezTo>
                  <a:pt x="677" y="329"/>
                  <a:pt x="685" y="318"/>
                  <a:pt x="690" y="310"/>
                </a:cubicBezTo>
                <a:cubicBezTo>
                  <a:pt x="695" y="303"/>
                  <a:pt x="718" y="292"/>
                  <a:pt x="709" y="292"/>
                </a:cubicBezTo>
                <a:cubicBezTo>
                  <a:pt x="692" y="292"/>
                  <a:pt x="649" y="338"/>
                  <a:pt x="635" y="347"/>
                </a:cubicBezTo>
                <a:cubicBezTo>
                  <a:pt x="625" y="346"/>
                  <a:pt x="430" y="360"/>
                  <a:pt x="535" y="292"/>
                </a:cubicBezTo>
                <a:cubicBezTo>
                  <a:pt x="541" y="283"/>
                  <a:pt x="542" y="265"/>
                  <a:pt x="553" y="265"/>
                </a:cubicBezTo>
                <a:cubicBezTo>
                  <a:pt x="562" y="265"/>
                  <a:pt x="551" y="285"/>
                  <a:pt x="544" y="292"/>
                </a:cubicBezTo>
                <a:cubicBezTo>
                  <a:pt x="537" y="299"/>
                  <a:pt x="526" y="298"/>
                  <a:pt x="517" y="301"/>
                </a:cubicBezTo>
                <a:cubicBezTo>
                  <a:pt x="455" y="343"/>
                  <a:pt x="379" y="346"/>
                  <a:pt x="306" y="356"/>
                </a:cubicBezTo>
                <a:cubicBezTo>
                  <a:pt x="241" y="348"/>
                  <a:pt x="228" y="351"/>
                  <a:pt x="187" y="310"/>
                </a:cubicBezTo>
                <a:cubicBezTo>
                  <a:pt x="160" y="229"/>
                  <a:pt x="166" y="245"/>
                  <a:pt x="215" y="182"/>
                </a:cubicBezTo>
                <a:cubicBezTo>
                  <a:pt x="222" y="173"/>
                  <a:pt x="225" y="163"/>
                  <a:pt x="233" y="155"/>
                </a:cubicBezTo>
                <a:cubicBezTo>
                  <a:pt x="238" y="150"/>
                  <a:pt x="277" y="131"/>
                  <a:pt x="279" y="118"/>
                </a:cubicBezTo>
                <a:cubicBezTo>
                  <a:pt x="284" y="79"/>
                  <a:pt x="279" y="39"/>
                  <a:pt x="279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39625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44197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3434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3360" y="48006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2320" y="3946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98440" y="2789280"/>
            <a:ext cx="299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roba de retour au choc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94480" y="3322800"/>
            <a:ext cx="338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gain moyen G par cycle d-u-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43120" y="3886200"/>
            <a:ext cx="2209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pectre en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 =1-Ln 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Ln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8480" y="51055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Resultat non-relat.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18320" y="5684760"/>
            <a:ext cx="44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oupure: pertes / efficacité du transpor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20" y="34894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ffusion des RC de part et d’autre du ch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2819520"/>
            <a:ext cx="0" cy="2666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78080" y="45687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819520"/>
            <a:ext cx="2743200" cy="2743200"/>
          </a:xfrm>
          <a:custGeom>
            <a:avLst/>
            <a:gdLst/>
            <a:ahLst/>
            <a:rect l="l" t="t" r="r" b="b"/>
            <a:pathLst>
              <a:path w="978" h="1069">
                <a:moveTo>
                  <a:pt x="69" y="1069"/>
                </a:moveTo>
                <a:cubicBezTo>
                  <a:pt x="23" y="1040"/>
                  <a:pt x="0" y="975"/>
                  <a:pt x="69" y="950"/>
                </a:cubicBezTo>
                <a:cubicBezTo>
                  <a:pt x="111" y="959"/>
                  <a:pt x="158" y="950"/>
                  <a:pt x="197" y="969"/>
                </a:cubicBezTo>
                <a:cubicBezTo>
                  <a:pt x="206" y="973"/>
                  <a:pt x="194" y="989"/>
                  <a:pt x="187" y="996"/>
                </a:cubicBezTo>
                <a:cubicBezTo>
                  <a:pt x="180" y="1003"/>
                  <a:pt x="169" y="1002"/>
                  <a:pt x="160" y="1005"/>
                </a:cubicBezTo>
                <a:cubicBezTo>
                  <a:pt x="145" y="1002"/>
                  <a:pt x="118" y="1011"/>
                  <a:pt x="114" y="996"/>
                </a:cubicBezTo>
                <a:cubicBezTo>
                  <a:pt x="86" y="891"/>
                  <a:pt x="148" y="799"/>
                  <a:pt x="242" y="768"/>
                </a:cubicBezTo>
                <a:cubicBezTo>
                  <a:pt x="254" y="771"/>
                  <a:pt x="269" y="769"/>
                  <a:pt x="279" y="777"/>
                </a:cubicBezTo>
                <a:cubicBezTo>
                  <a:pt x="297" y="791"/>
                  <a:pt x="283" y="854"/>
                  <a:pt x="279" y="859"/>
                </a:cubicBezTo>
                <a:cubicBezTo>
                  <a:pt x="272" y="869"/>
                  <a:pt x="254" y="865"/>
                  <a:pt x="242" y="868"/>
                </a:cubicBezTo>
                <a:cubicBezTo>
                  <a:pt x="187" y="854"/>
                  <a:pt x="201" y="848"/>
                  <a:pt x="187" y="795"/>
                </a:cubicBezTo>
                <a:cubicBezTo>
                  <a:pt x="203" y="753"/>
                  <a:pt x="264" y="699"/>
                  <a:pt x="306" y="685"/>
                </a:cubicBezTo>
                <a:cubicBezTo>
                  <a:pt x="340" y="689"/>
                  <a:pt x="383" y="680"/>
                  <a:pt x="407" y="704"/>
                </a:cubicBezTo>
                <a:cubicBezTo>
                  <a:pt x="421" y="718"/>
                  <a:pt x="423" y="741"/>
                  <a:pt x="434" y="758"/>
                </a:cubicBezTo>
                <a:cubicBezTo>
                  <a:pt x="418" y="807"/>
                  <a:pt x="407" y="797"/>
                  <a:pt x="361" y="786"/>
                </a:cubicBezTo>
                <a:cubicBezTo>
                  <a:pt x="348" y="746"/>
                  <a:pt x="347" y="695"/>
                  <a:pt x="370" y="658"/>
                </a:cubicBezTo>
                <a:cubicBezTo>
                  <a:pt x="379" y="643"/>
                  <a:pt x="391" y="629"/>
                  <a:pt x="407" y="621"/>
                </a:cubicBezTo>
                <a:cubicBezTo>
                  <a:pt x="424" y="612"/>
                  <a:pt x="462" y="603"/>
                  <a:pt x="462" y="603"/>
                </a:cubicBezTo>
                <a:cubicBezTo>
                  <a:pt x="483" y="606"/>
                  <a:pt x="506" y="603"/>
                  <a:pt x="526" y="612"/>
                </a:cubicBezTo>
                <a:cubicBezTo>
                  <a:pt x="575" y="634"/>
                  <a:pt x="525" y="673"/>
                  <a:pt x="507" y="685"/>
                </a:cubicBezTo>
                <a:cubicBezTo>
                  <a:pt x="504" y="676"/>
                  <a:pt x="496" y="667"/>
                  <a:pt x="498" y="658"/>
                </a:cubicBezTo>
                <a:cubicBezTo>
                  <a:pt x="500" y="649"/>
                  <a:pt x="512" y="647"/>
                  <a:pt x="517" y="640"/>
                </a:cubicBezTo>
                <a:cubicBezTo>
                  <a:pt x="524" y="631"/>
                  <a:pt x="526" y="618"/>
                  <a:pt x="535" y="612"/>
                </a:cubicBezTo>
                <a:cubicBezTo>
                  <a:pt x="577" y="585"/>
                  <a:pt x="669" y="573"/>
                  <a:pt x="718" y="557"/>
                </a:cubicBezTo>
                <a:cubicBezTo>
                  <a:pt x="724" y="553"/>
                  <a:pt x="769" y="528"/>
                  <a:pt x="763" y="512"/>
                </a:cubicBezTo>
                <a:cubicBezTo>
                  <a:pt x="758" y="499"/>
                  <a:pt x="739" y="499"/>
                  <a:pt x="727" y="493"/>
                </a:cubicBezTo>
                <a:cubicBezTo>
                  <a:pt x="726" y="489"/>
                  <a:pt x="715" y="444"/>
                  <a:pt x="699" y="448"/>
                </a:cubicBezTo>
                <a:cubicBezTo>
                  <a:pt x="688" y="451"/>
                  <a:pt x="687" y="466"/>
                  <a:pt x="681" y="475"/>
                </a:cubicBezTo>
                <a:cubicBezTo>
                  <a:pt x="682" y="480"/>
                  <a:pt x="690" y="559"/>
                  <a:pt x="699" y="566"/>
                </a:cubicBezTo>
                <a:cubicBezTo>
                  <a:pt x="715" y="577"/>
                  <a:pt x="754" y="585"/>
                  <a:pt x="754" y="585"/>
                </a:cubicBezTo>
                <a:cubicBezTo>
                  <a:pt x="788" y="617"/>
                  <a:pt x="806" y="598"/>
                  <a:pt x="846" y="585"/>
                </a:cubicBezTo>
                <a:cubicBezTo>
                  <a:pt x="923" y="504"/>
                  <a:pt x="898" y="371"/>
                  <a:pt x="800" y="338"/>
                </a:cubicBezTo>
                <a:cubicBezTo>
                  <a:pt x="788" y="341"/>
                  <a:pt x="773" y="339"/>
                  <a:pt x="763" y="347"/>
                </a:cubicBezTo>
                <a:cubicBezTo>
                  <a:pt x="748" y="359"/>
                  <a:pt x="755" y="401"/>
                  <a:pt x="763" y="411"/>
                </a:cubicBezTo>
                <a:cubicBezTo>
                  <a:pt x="769" y="419"/>
                  <a:pt x="782" y="417"/>
                  <a:pt x="791" y="420"/>
                </a:cubicBezTo>
                <a:cubicBezTo>
                  <a:pt x="800" y="426"/>
                  <a:pt x="808" y="434"/>
                  <a:pt x="818" y="438"/>
                </a:cubicBezTo>
                <a:cubicBezTo>
                  <a:pt x="836" y="446"/>
                  <a:pt x="873" y="457"/>
                  <a:pt x="873" y="457"/>
                </a:cubicBezTo>
                <a:cubicBezTo>
                  <a:pt x="900" y="454"/>
                  <a:pt x="932" y="463"/>
                  <a:pt x="955" y="448"/>
                </a:cubicBezTo>
                <a:cubicBezTo>
                  <a:pt x="971" y="438"/>
                  <a:pt x="974" y="393"/>
                  <a:pt x="974" y="393"/>
                </a:cubicBezTo>
                <a:cubicBezTo>
                  <a:pt x="970" y="364"/>
                  <a:pt x="978" y="326"/>
                  <a:pt x="946" y="310"/>
                </a:cubicBezTo>
                <a:cubicBezTo>
                  <a:pt x="929" y="301"/>
                  <a:pt x="891" y="292"/>
                  <a:pt x="891" y="292"/>
                </a:cubicBezTo>
                <a:cubicBezTo>
                  <a:pt x="864" y="295"/>
                  <a:pt x="835" y="294"/>
                  <a:pt x="809" y="301"/>
                </a:cubicBezTo>
                <a:cubicBezTo>
                  <a:pt x="801" y="303"/>
                  <a:pt x="799" y="316"/>
                  <a:pt x="791" y="320"/>
                </a:cubicBezTo>
                <a:cubicBezTo>
                  <a:pt x="774" y="329"/>
                  <a:pt x="754" y="332"/>
                  <a:pt x="736" y="338"/>
                </a:cubicBezTo>
                <a:cubicBezTo>
                  <a:pt x="727" y="341"/>
                  <a:pt x="709" y="347"/>
                  <a:pt x="709" y="347"/>
                </a:cubicBezTo>
                <a:cubicBezTo>
                  <a:pt x="700" y="344"/>
                  <a:pt x="685" y="347"/>
                  <a:pt x="681" y="338"/>
                </a:cubicBezTo>
                <a:cubicBezTo>
                  <a:pt x="677" y="329"/>
                  <a:pt x="685" y="318"/>
                  <a:pt x="690" y="310"/>
                </a:cubicBezTo>
                <a:cubicBezTo>
                  <a:pt x="695" y="303"/>
                  <a:pt x="718" y="292"/>
                  <a:pt x="709" y="292"/>
                </a:cubicBezTo>
                <a:cubicBezTo>
                  <a:pt x="692" y="292"/>
                  <a:pt x="649" y="338"/>
                  <a:pt x="635" y="347"/>
                </a:cubicBezTo>
                <a:cubicBezTo>
                  <a:pt x="625" y="346"/>
                  <a:pt x="430" y="360"/>
                  <a:pt x="535" y="292"/>
                </a:cubicBezTo>
                <a:cubicBezTo>
                  <a:pt x="541" y="283"/>
                  <a:pt x="542" y="265"/>
                  <a:pt x="553" y="265"/>
                </a:cubicBezTo>
                <a:cubicBezTo>
                  <a:pt x="562" y="265"/>
                  <a:pt x="551" y="285"/>
                  <a:pt x="544" y="292"/>
                </a:cubicBezTo>
                <a:cubicBezTo>
                  <a:pt x="537" y="299"/>
                  <a:pt x="526" y="298"/>
                  <a:pt x="517" y="301"/>
                </a:cubicBezTo>
                <a:cubicBezTo>
                  <a:pt x="455" y="343"/>
                  <a:pt x="379" y="346"/>
                  <a:pt x="306" y="356"/>
                </a:cubicBezTo>
                <a:cubicBezTo>
                  <a:pt x="241" y="348"/>
                  <a:pt x="228" y="351"/>
                  <a:pt x="187" y="310"/>
                </a:cubicBezTo>
                <a:cubicBezTo>
                  <a:pt x="160" y="229"/>
                  <a:pt x="166" y="245"/>
                  <a:pt x="215" y="182"/>
                </a:cubicBezTo>
                <a:cubicBezTo>
                  <a:pt x="222" y="173"/>
                  <a:pt x="225" y="163"/>
                  <a:pt x="233" y="155"/>
                </a:cubicBezTo>
                <a:cubicBezTo>
                  <a:pt x="238" y="150"/>
                  <a:pt x="277" y="131"/>
                  <a:pt x="279" y="118"/>
                </a:cubicBezTo>
                <a:cubicBezTo>
                  <a:pt x="284" y="79"/>
                  <a:pt x="279" y="39"/>
                  <a:pt x="279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39625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44197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3434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3360" y="48006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2320" y="3946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20" y="34894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05400" y="1676520"/>
            <a:ext cx="4638600" cy="5181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08040" y="173664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ycles de Fer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Quelques spectres non-thermiqu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9640" y="20955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55240" y="33148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270504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ulsar nebul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32280" y="392436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840" y="476244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cro-Quas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286000"/>
            <a:ext cx="4245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ources de rayonnement hors équilibre, révélant des populations de particules énergétiques. Distributions d’énergie souvent en loi de puiss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(indice s souvent  2 &lt; s &lt;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mps de résidence, efficac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0280" y="175248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roba n cycles et seulement n :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2819520"/>
            <a:ext cx="0" cy="2666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78080" y="45687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2819520"/>
            <a:ext cx="2743200" cy="2743200"/>
          </a:xfrm>
          <a:custGeom>
            <a:avLst/>
            <a:gdLst/>
            <a:ahLst/>
            <a:rect l="l" t="t" r="r" b="b"/>
            <a:pathLst>
              <a:path w="978" h="1069">
                <a:moveTo>
                  <a:pt x="69" y="1069"/>
                </a:moveTo>
                <a:cubicBezTo>
                  <a:pt x="23" y="1040"/>
                  <a:pt x="0" y="975"/>
                  <a:pt x="69" y="950"/>
                </a:cubicBezTo>
                <a:cubicBezTo>
                  <a:pt x="111" y="959"/>
                  <a:pt x="158" y="950"/>
                  <a:pt x="197" y="969"/>
                </a:cubicBezTo>
                <a:cubicBezTo>
                  <a:pt x="206" y="973"/>
                  <a:pt x="194" y="989"/>
                  <a:pt x="187" y="996"/>
                </a:cubicBezTo>
                <a:cubicBezTo>
                  <a:pt x="180" y="1003"/>
                  <a:pt x="169" y="1002"/>
                  <a:pt x="160" y="1005"/>
                </a:cubicBezTo>
                <a:cubicBezTo>
                  <a:pt x="145" y="1002"/>
                  <a:pt x="118" y="1011"/>
                  <a:pt x="114" y="996"/>
                </a:cubicBezTo>
                <a:cubicBezTo>
                  <a:pt x="86" y="891"/>
                  <a:pt x="148" y="799"/>
                  <a:pt x="242" y="768"/>
                </a:cubicBezTo>
                <a:cubicBezTo>
                  <a:pt x="254" y="771"/>
                  <a:pt x="269" y="769"/>
                  <a:pt x="279" y="777"/>
                </a:cubicBezTo>
                <a:cubicBezTo>
                  <a:pt x="297" y="791"/>
                  <a:pt x="283" y="854"/>
                  <a:pt x="279" y="859"/>
                </a:cubicBezTo>
                <a:cubicBezTo>
                  <a:pt x="272" y="869"/>
                  <a:pt x="254" y="865"/>
                  <a:pt x="242" y="868"/>
                </a:cubicBezTo>
                <a:cubicBezTo>
                  <a:pt x="187" y="854"/>
                  <a:pt x="201" y="848"/>
                  <a:pt x="187" y="795"/>
                </a:cubicBezTo>
                <a:cubicBezTo>
                  <a:pt x="203" y="753"/>
                  <a:pt x="264" y="699"/>
                  <a:pt x="306" y="685"/>
                </a:cubicBezTo>
                <a:cubicBezTo>
                  <a:pt x="340" y="689"/>
                  <a:pt x="383" y="680"/>
                  <a:pt x="407" y="704"/>
                </a:cubicBezTo>
                <a:cubicBezTo>
                  <a:pt x="421" y="718"/>
                  <a:pt x="423" y="741"/>
                  <a:pt x="434" y="758"/>
                </a:cubicBezTo>
                <a:cubicBezTo>
                  <a:pt x="418" y="807"/>
                  <a:pt x="407" y="797"/>
                  <a:pt x="361" y="786"/>
                </a:cubicBezTo>
                <a:cubicBezTo>
                  <a:pt x="348" y="746"/>
                  <a:pt x="347" y="695"/>
                  <a:pt x="370" y="658"/>
                </a:cubicBezTo>
                <a:cubicBezTo>
                  <a:pt x="379" y="643"/>
                  <a:pt x="391" y="629"/>
                  <a:pt x="407" y="621"/>
                </a:cubicBezTo>
                <a:cubicBezTo>
                  <a:pt x="424" y="612"/>
                  <a:pt x="462" y="603"/>
                  <a:pt x="462" y="603"/>
                </a:cubicBezTo>
                <a:cubicBezTo>
                  <a:pt x="483" y="606"/>
                  <a:pt x="506" y="603"/>
                  <a:pt x="526" y="612"/>
                </a:cubicBezTo>
                <a:cubicBezTo>
                  <a:pt x="575" y="634"/>
                  <a:pt x="525" y="673"/>
                  <a:pt x="507" y="685"/>
                </a:cubicBezTo>
                <a:cubicBezTo>
                  <a:pt x="504" y="676"/>
                  <a:pt x="496" y="667"/>
                  <a:pt x="498" y="658"/>
                </a:cubicBezTo>
                <a:cubicBezTo>
                  <a:pt x="500" y="649"/>
                  <a:pt x="512" y="647"/>
                  <a:pt x="517" y="640"/>
                </a:cubicBezTo>
                <a:cubicBezTo>
                  <a:pt x="524" y="631"/>
                  <a:pt x="526" y="618"/>
                  <a:pt x="535" y="612"/>
                </a:cubicBezTo>
                <a:cubicBezTo>
                  <a:pt x="577" y="585"/>
                  <a:pt x="669" y="573"/>
                  <a:pt x="718" y="557"/>
                </a:cubicBezTo>
                <a:cubicBezTo>
                  <a:pt x="724" y="553"/>
                  <a:pt x="769" y="528"/>
                  <a:pt x="763" y="512"/>
                </a:cubicBezTo>
                <a:cubicBezTo>
                  <a:pt x="758" y="499"/>
                  <a:pt x="739" y="499"/>
                  <a:pt x="727" y="493"/>
                </a:cubicBezTo>
                <a:cubicBezTo>
                  <a:pt x="726" y="489"/>
                  <a:pt x="715" y="444"/>
                  <a:pt x="699" y="448"/>
                </a:cubicBezTo>
                <a:cubicBezTo>
                  <a:pt x="688" y="451"/>
                  <a:pt x="687" y="466"/>
                  <a:pt x="681" y="475"/>
                </a:cubicBezTo>
                <a:cubicBezTo>
                  <a:pt x="682" y="480"/>
                  <a:pt x="690" y="559"/>
                  <a:pt x="699" y="566"/>
                </a:cubicBezTo>
                <a:cubicBezTo>
                  <a:pt x="715" y="577"/>
                  <a:pt x="754" y="585"/>
                  <a:pt x="754" y="585"/>
                </a:cubicBezTo>
                <a:cubicBezTo>
                  <a:pt x="788" y="617"/>
                  <a:pt x="806" y="598"/>
                  <a:pt x="846" y="585"/>
                </a:cubicBezTo>
                <a:cubicBezTo>
                  <a:pt x="923" y="504"/>
                  <a:pt x="898" y="371"/>
                  <a:pt x="800" y="338"/>
                </a:cubicBezTo>
                <a:cubicBezTo>
                  <a:pt x="788" y="341"/>
                  <a:pt x="773" y="339"/>
                  <a:pt x="763" y="347"/>
                </a:cubicBezTo>
                <a:cubicBezTo>
                  <a:pt x="748" y="359"/>
                  <a:pt x="755" y="401"/>
                  <a:pt x="763" y="411"/>
                </a:cubicBezTo>
                <a:cubicBezTo>
                  <a:pt x="769" y="419"/>
                  <a:pt x="782" y="417"/>
                  <a:pt x="791" y="420"/>
                </a:cubicBezTo>
                <a:cubicBezTo>
                  <a:pt x="800" y="426"/>
                  <a:pt x="808" y="434"/>
                  <a:pt x="818" y="438"/>
                </a:cubicBezTo>
                <a:cubicBezTo>
                  <a:pt x="836" y="446"/>
                  <a:pt x="873" y="457"/>
                  <a:pt x="873" y="457"/>
                </a:cubicBezTo>
                <a:cubicBezTo>
                  <a:pt x="900" y="454"/>
                  <a:pt x="932" y="463"/>
                  <a:pt x="955" y="448"/>
                </a:cubicBezTo>
                <a:cubicBezTo>
                  <a:pt x="971" y="438"/>
                  <a:pt x="974" y="393"/>
                  <a:pt x="974" y="393"/>
                </a:cubicBezTo>
                <a:cubicBezTo>
                  <a:pt x="970" y="364"/>
                  <a:pt x="978" y="326"/>
                  <a:pt x="946" y="310"/>
                </a:cubicBezTo>
                <a:cubicBezTo>
                  <a:pt x="929" y="301"/>
                  <a:pt x="891" y="292"/>
                  <a:pt x="891" y="292"/>
                </a:cubicBezTo>
                <a:cubicBezTo>
                  <a:pt x="864" y="295"/>
                  <a:pt x="835" y="294"/>
                  <a:pt x="809" y="301"/>
                </a:cubicBezTo>
                <a:cubicBezTo>
                  <a:pt x="801" y="303"/>
                  <a:pt x="799" y="316"/>
                  <a:pt x="791" y="320"/>
                </a:cubicBezTo>
                <a:cubicBezTo>
                  <a:pt x="774" y="329"/>
                  <a:pt x="754" y="332"/>
                  <a:pt x="736" y="338"/>
                </a:cubicBezTo>
                <a:cubicBezTo>
                  <a:pt x="727" y="341"/>
                  <a:pt x="709" y="347"/>
                  <a:pt x="709" y="347"/>
                </a:cubicBezTo>
                <a:cubicBezTo>
                  <a:pt x="700" y="344"/>
                  <a:pt x="685" y="347"/>
                  <a:pt x="681" y="338"/>
                </a:cubicBezTo>
                <a:cubicBezTo>
                  <a:pt x="677" y="329"/>
                  <a:pt x="685" y="318"/>
                  <a:pt x="690" y="310"/>
                </a:cubicBezTo>
                <a:cubicBezTo>
                  <a:pt x="695" y="303"/>
                  <a:pt x="718" y="292"/>
                  <a:pt x="709" y="292"/>
                </a:cubicBezTo>
                <a:cubicBezTo>
                  <a:pt x="692" y="292"/>
                  <a:pt x="649" y="338"/>
                  <a:pt x="635" y="347"/>
                </a:cubicBezTo>
                <a:cubicBezTo>
                  <a:pt x="625" y="346"/>
                  <a:pt x="430" y="360"/>
                  <a:pt x="535" y="292"/>
                </a:cubicBezTo>
                <a:cubicBezTo>
                  <a:pt x="541" y="283"/>
                  <a:pt x="542" y="265"/>
                  <a:pt x="553" y="265"/>
                </a:cubicBezTo>
                <a:cubicBezTo>
                  <a:pt x="562" y="265"/>
                  <a:pt x="551" y="285"/>
                  <a:pt x="544" y="292"/>
                </a:cubicBezTo>
                <a:cubicBezTo>
                  <a:pt x="537" y="299"/>
                  <a:pt x="526" y="298"/>
                  <a:pt x="517" y="301"/>
                </a:cubicBezTo>
                <a:cubicBezTo>
                  <a:pt x="455" y="343"/>
                  <a:pt x="379" y="346"/>
                  <a:pt x="306" y="356"/>
                </a:cubicBezTo>
                <a:cubicBezTo>
                  <a:pt x="241" y="348"/>
                  <a:pt x="228" y="351"/>
                  <a:pt x="187" y="310"/>
                </a:cubicBezTo>
                <a:cubicBezTo>
                  <a:pt x="160" y="229"/>
                  <a:pt x="166" y="245"/>
                  <a:pt x="215" y="182"/>
                </a:cubicBezTo>
                <a:cubicBezTo>
                  <a:pt x="222" y="173"/>
                  <a:pt x="225" y="163"/>
                  <a:pt x="233" y="155"/>
                </a:cubicBezTo>
                <a:cubicBezTo>
                  <a:pt x="238" y="150"/>
                  <a:pt x="277" y="131"/>
                  <a:pt x="279" y="118"/>
                </a:cubicBezTo>
                <a:cubicBezTo>
                  <a:pt x="284" y="79"/>
                  <a:pt x="279" y="39"/>
                  <a:pt x="279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39625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44197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43434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3360" y="48006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2320" y="3946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3680" y="2408400"/>
            <a:ext cx="21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nb cycles moye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440" y="3094200"/>
            <a:ext cx="25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réquence des cyc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237200"/>
            <a:ext cx="23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orce accélératric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0200" y="3703680"/>
            <a:ext cx="24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emps de résidenc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20" y="34894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121932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3048120" cy="677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010280" y="3124080"/>
            <a:ext cx="1600200" cy="289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3861000" cy="5875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7620120" y="3581280"/>
            <a:ext cx="946080" cy="587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6095880" y="6019920"/>
            <a:ext cx="2590920" cy="406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122280" y="606600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emps d’accéléra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8120" y="545616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urée cyc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72200" y="5486400"/>
            <a:ext cx="182880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76720" y="4267080"/>
            <a:ext cx="51814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pec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429000" cy="3193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05720" y="1828800"/>
            <a:ext cx="1726920" cy="345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219320" y="3352680"/>
            <a:ext cx="2133360" cy="658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2133720" y="2438280"/>
            <a:ext cx="4419360" cy="449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038480" y="3505320"/>
            <a:ext cx="2057400" cy="369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533520" y="4419720"/>
            <a:ext cx="1981080" cy="341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533520" y="4952880"/>
            <a:ext cx="1981080" cy="588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3505320" y="4419720"/>
            <a:ext cx="1752480" cy="636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5791320" y="4648320"/>
            <a:ext cx="2438280" cy="225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313520" y="5334120"/>
            <a:ext cx="328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ure quand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ac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per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5791320"/>
            <a:ext cx="41911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Radiative, expansion pour les e</a:t>
            </a:r>
            <a:r>
              <a:rPr b="0" lang="en-US" sz="2000" spc="-1" strike="noStrike" baseline="30000">
                <a:solidFill>
                  <a:srgbClr val="009999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Échappement, expansion, pour le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erform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39320" y="1935000"/>
            <a:ext cx="72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si pertes dans la source, spectre infléchi à la source, voire dava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1640" y="3398760"/>
            <a:ext cx="54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sinon, pertes significatives dans le milieu amb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22360" y="2468520"/>
            <a:ext cx="71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emple intéressant: perte par génération de la turbulence en am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3543480" cy="284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498320" y="3916440"/>
            <a:ext cx="67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ar exemple, production par SNRs et échappement de la Galax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198144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267080" y="4419720"/>
            <a:ext cx="3962520" cy="425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743200" y="5181480"/>
            <a:ext cx="2819520" cy="343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80880" y="58672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oupur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523880" y="5943600"/>
            <a:ext cx="2590920" cy="351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267080" y="5715000"/>
            <a:ext cx="46357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ffet d’obliquité, transformation de de Hofmann-Te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91280" y="1828800"/>
            <a:ext cx="655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Champ magnétique oblique et écoulement normal au front 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                      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champ électrique (E+u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B=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47680" y="2590920"/>
            <a:ext cx="65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ransfo de Hofmann-Teller : effacement du champ élec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358128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Écoulement le long du ch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4419720" cy="358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803760" y="3962520"/>
            <a:ext cx="437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ransfo possible si choc subluminiqu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V &lt; c (obliquité modéré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74440" y="4952880"/>
            <a:ext cx="483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ransfo impossible si choc superluminiqu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orte obliqu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7162920" y="3048120"/>
            <a:ext cx="1295280" cy="6728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728520" y="4572000"/>
            <a:ext cx="52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ésultats semblables au cas d’un champ parall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23120" y="5638680"/>
            <a:ext cx="51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fond changement des conditions de dif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t donc de durée d’un cycle de Fer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2971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uto-génération de la turbu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657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2806560"/>
            <a:ext cx="4191120" cy="851040"/>
          </a:xfrm>
          <a:custGeom>
            <a:avLst/>
            <a:gdLst/>
            <a:ahLst/>
            <a:rect l="l" t="t" r="r" b="b"/>
            <a:pathLst>
              <a:path w="1872" h="488">
                <a:moveTo>
                  <a:pt x="0" y="8"/>
                </a:moveTo>
                <a:cubicBezTo>
                  <a:pt x="96" y="4"/>
                  <a:pt x="192" y="0"/>
                  <a:pt x="288" y="8"/>
                </a:cubicBezTo>
                <a:cubicBezTo>
                  <a:pt x="384" y="16"/>
                  <a:pt x="488" y="24"/>
                  <a:pt x="576" y="56"/>
                </a:cubicBezTo>
                <a:cubicBezTo>
                  <a:pt x="664" y="88"/>
                  <a:pt x="744" y="152"/>
                  <a:pt x="816" y="200"/>
                </a:cubicBezTo>
                <a:cubicBezTo>
                  <a:pt x="888" y="248"/>
                  <a:pt x="928" y="304"/>
                  <a:pt x="1008" y="344"/>
                </a:cubicBezTo>
                <a:cubicBezTo>
                  <a:pt x="1088" y="384"/>
                  <a:pt x="1152" y="416"/>
                  <a:pt x="1296" y="440"/>
                </a:cubicBezTo>
                <a:cubicBezTo>
                  <a:pt x="1440" y="464"/>
                  <a:pt x="1656" y="476"/>
                  <a:pt x="187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38920" y="28209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8760" y="2316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297180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880" y="2422440"/>
            <a:ext cx="98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87920" y="4952880"/>
            <a:ext cx="376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urning point” pour chaque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92640" y="5410080"/>
            <a:ext cx="583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11411"/>
                </a:solidFill>
                <a:latin typeface="Times New Roman"/>
              </a:rPr>
              <a:t>Left modes evanescent, right modes ampl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11411"/>
                </a:solidFill>
                <a:latin typeface="Times New Roman"/>
              </a:rPr>
              <a:t>Calcul WKB de l’amp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83600" y="1600200"/>
            <a:ext cx="72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Choc </a:t>
            </a:r>
            <a:r>
              <a:rPr b="0" lang="fr-FR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subluminique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, mouvt des RC le long des lignes de champ 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distribution anisotrope des RC / plasma amont 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 instabilité ciné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2514600"/>
            <a:ext cx="0" cy="1523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2652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ndes d’Alfvé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5840" y="4343400"/>
            <a:ext cx="74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teraction résonnante + effet non-résonnant de la charge des RC (B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ccélération dans une couche de cisail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3555720" cy="576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488120" y="3048120"/>
            <a:ext cx="365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onduit à une sort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rocessus de Fermi du 2nd ord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2146320" cy="712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5105520"/>
            <a:ext cx="7391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omine le Fermi du 2nd ordre dans turbulence d’Alfvén si 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u  &gt; V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2640" y="399240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Berezhko 83, Ostrowski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89880" y="5592600"/>
            <a:ext cx="47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(serait plus intéressant dans le cas relativis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2362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57400" y="2362320"/>
            <a:ext cx="457200" cy="121896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288" y="0"/>
                </a:moveTo>
                <a:cubicBezTo>
                  <a:pt x="252" y="8"/>
                  <a:pt x="216" y="16"/>
                  <a:pt x="192" y="48"/>
                </a:cubicBezTo>
                <a:cubicBezTo>
                  <a:pt x="168" y="80"/>
                  <a:pt x="152" y="152"/>
                  <a:pt x="144" y="192"/>
                </a:cubicBezTo>
                <a:cubicBezTo>
                  <a:pt x="136" y="232"/>
                  <a:pt x="144" y="248"/>
                  <a:pt x="144" y="288"/>
                </a:cubicBezTo>
                <a:cubicBezTo>
                  <a:pt x="144" y="328"/>
                  <a:pt x="144" y="392"/>
                  <a:pt x="144" y="432"/>
                </a:cubicBezTo>
                <a:cubicBezTo>
                  <a:pt x="144" y="472"/>
                  <a:pt x="144" y="496"/>
                  <a:pt x="144" y="528"/>
                </a:cubicBezTo>
                <a:cubicBezTo>
                  <a:pt x="144" y="560"/>
                  <a:pt x="152" y="592"/>
                  <a:pt x="144" y="624"/>
                </a:cubicBezTo>
                <a:cubicBezTo>
                  <a:pt x="136" y="656"/>
                  <a:pt x="120" y="696"/>
                  <a:pt x="96" y="720"/>
                </a:cubicBezTo>
                <a:cubicBezTo>
                  <a:pt x="72" y="744"/>
                  <a:pt x="36" y="756"/>
                  <a:pt x="0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0160" y="3108240"/>
            <a:ext cx="52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92120" y="18129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Quelques références sur la 1</a:t>
            </a:r>
            <a:r>
              <a:rPr b="0" lang="en-US" sz="3200" spc="-1" strike="noStrike" baseline="30000">
                <a:solidFill>
                  <a:srgbClr val="333399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partie </a:t>
            </a:r>
            <a:br>
              <a:rPr sz="32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non-relativis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mi 41, Phys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mski 77, IC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l 78, MN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ndford-Ostriker 78, Ap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Kenzie &amp; Völk  84, A &amp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l 02, MN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uskin 04, A &amp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lletier, Lemoine, Marcowith 06, A &amp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owith, Lemoine, Pelletier 06, A &amp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ezhko 83, Yakutz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trowski 90, A &amp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ermi acceleration in relativistic reg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04320" y="2133720"/>
            <a:ext cx="772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t each scattering the particle energy jump can be l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acceleration time can be shorter tha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cattering time for strong enough magnetic disturb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distribution functions are strongly anisotrop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ermi cycles in relativistic reg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956200" cy="5540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666880" y="2514600"/>
            <a:ext cx="5753160" cy="457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3276720" y="3048120"/>
            <a:ext cx="4489200" cy="647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3962520" y="3886200"/>
            <a:ext cx="3136680" cy="365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16240" y="201132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ermi cyc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6920" y="2895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Lorentz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6920" y="3809880"/>
            <a:ext cx="253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Scattering in magne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erturbation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3429000" y="4419720"/>
            <a:ext cx="5092560" cy="7714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4040" y="457200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Inverse Lorentz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2200" y="5181480"/>
            <a:ext cx="409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lastic scattering in co-moving fr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ads to energy variation in obs.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2666880" y="5943600"/>
            <a:ext cx="58676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lativistic Sh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19560" y="2209680"/>
            <a:ext cx="23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ompression ratio :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3238560" cy="574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328" name=""/>
          <p:cNvSpPr/>
          <p:nvPr/>
        </p:nvSpPr>
        <p:spPr>
          <a:xfrm>
            <a:off x="682920" y="38862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Strong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5677200" cy="3841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2362320" y="3809880"/>
            <a:ext cx="4432320" cy="63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419720" y="5638680"/>
            <a:ext cx="3276360" cy="46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332" name=""/>
          <p:cNvSpPr/>
          <p:nvPr/>
        </p:nvSpPr>
        <p:spPr>
          <a:xfrm>
            <a:off x="295560" y="5486400"/>
            <a:ext cx="372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strong compression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ransverse component of the fiel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7086600" y="3962520"/>
            <a:ext cx="1600200" cy="366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4267080" y="4724280"/>
            <a:ext cx="1828800" cy="6145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1595520" y="480060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ownstream pressu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mission radio-synchrotron des AGNs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jets et hot spo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863720"/>
            <a:ext cx="6172200" cy="4471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375680" y="21556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934320" y="2666880"/>
            <a:ext cx="1650960" cy="40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629400" y="4267080"/>
            <a:ext cx="226044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ngular constraint, strong anisotr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2546640" cy="666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79320" y="1828800"/>
            <a:ext cx="30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nergy gain depends o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ovariant relative mo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4400" y="3352680"/>
            <a:ext cx="342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articles coming back 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have a narrow pitch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410080" y="2712960"/>
            <a:ext cx="2743200" cy="436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47120" y="4419720"/>
            <a:ext cx="41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apidly caught up by the shock fro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4800600" y="43434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6628680" y="44197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t mos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4343400" y="5105520"/>
            <a:ext cx="2692440" cy="425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56720" y="510552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nd thus tiny scatter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762120" y="5715000"/>
            <a:ext cx="2590560" cy="4190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26000" y="571500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ain of order unity close 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4457880" y="3352680"/>
            <a:ext cx="4076640" cy="6922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880440" y="6172200"/>
            <a:ext cx="28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allant &amp; Achterberg 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Numerical experiments on astroparticl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ransport and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4600" y="1981080"/>
            <a:ext cx="78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iffusion in a chaotic magnetic field, consequences for the performa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of the Cosmic Rays sources (F.Casse, M. Lemoine, G.P. 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0000" y="3352680"/>
            <a:ext cx="371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Semi-analytical results on Fer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cceleration in regime relativ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(M.Lemoine &amp; G.P. ApJL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4400640" cy="31561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24520" y="4998960"/>
            <a:ext cx="351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owever, correla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e gyro-phases… see further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verage gain, return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784680" cy="2846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648320" y="2362320"/>
            <a:ext cx="38862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pectrum,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952880" y="2149560"/>
            <a:ext cx="3854520" cy="30351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41911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oretical Spectral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095880" y="2160720"/>
            <a:ext cx="2159280" cy="3873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3568680" cy="3841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029200" y="4191120"/>
            <a:ext cx="3645000" cy="3920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832680" y="220968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Bell, non-relativistic regim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7360" y="3048120"/>
            <a:ext cx="362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xtension for relativistic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(good approxi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9280" y="4038480"/>
            <a:ext cx="37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xact form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(Vietri 05, Lemoine &amp; Pelletier 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78400" y="5516640"/>
            <a:ext cx="727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(average over “ingress” and  “egress” angles measured downstrea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weighted by the upstream return probability density  for these ang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33160" y="4983120"/>
            <a:ext cx="49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strong angular dependence of the 2 quant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Keshet &amp; Waxman Theory (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4160" y="38098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ssumption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581280" cy="758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3886200" y="2819520"/>
            <a:ext cx="4597560" cy="5950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663560" y="4267080"/>
            <a:ext cx="5407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-Isotropic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-downstream distribution almost isotr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-expansions arou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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-no correlation between upstream and downst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itch angles and gyro-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3657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2806560"/>
            <a:ext cx="4191120" cy="851040"/>
          </a:xfrm>
          <a:custGeom>
            <a:avLst/>
            <a:gdLst/>
            <a:ahLst/>
            <a:rect l="l" t="t" r="r" b="b"/>
            <a:pathLst>
              <a:path w="1872" h="488">
                <a:moveTo>
                  <a:pt x="0" y="8"/>
                </a:moveTo>
                <a:cubicBezTo>
                  <a:pt x="96" y="4"/>
                  <a:pt x="192" y="0"/>
                  <a:pt x="288" y="8"/>
                </a:cubicBezTo>
                <a:cubicBezTo>
                  <a:pt x="384" y="16"/>
                  <a:pt x="488" y="24"/>
                  <a:pt x="576" y="56"/>
                </a:cubicBezTo>
                <a:cubicBezTo>
                  <a:pt x="664" y="88"/>
                  <a:pt x="744" y="152"/>
                  <a:pt x="816" y="200"/>
                </a:cubicBezTo>
                <a:cubicBezTo>
                  <a:pt x="888" y="248"/>
                  <a:pt x="928" y="304"/>
                  <a:pt x="1008" y="344"/>
                </a:cubicBezTo>
                <a:cubicBezTo>
                  <a:pt x="1088" y="384"/>
                  <a:pt x="1152" y="416"/>
                  <a:pt x="1296" y="440"/>
                </a:cubicBezTo>
                <a:cubicBezTo>
                  <a:pt x="1440" y="464"/>
                  <a:pt x="1656" y="476"/>
                  <a:pt x="187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38920" y="28209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97680" y="2316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297180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41040" y="2440080"/>
            <a:ext cx="9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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38960" y="380988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lux of right and left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With strong relativistic Doppler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87920" y="457200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urning point” for each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95160" y="5029200"/>
            <a:ext cx="583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11411"/>
                </a:solidFill>
                <a:latin typeface="Times New Roman"/>
              </a:rPr>
              <a:t>Left modes evanescent, right modes ampl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11411"/>
                </a:solidFill>
                <a:latin typeface="Times New Roman"/>
              </a:rPr>
              <a:t>WKB calculation of the amp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39640" y="533520"/>
            <a:ext cx="61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eneration of an intense turbulence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26440" y="1600200"/>
            <a:ext cx="68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xtension of A. Bell instability for</a:t>
            </a: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bluminal</a:t>
            </a: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relativistic sh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2514600"/>
            <a:ext cx="0" cy="1523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7960" y="312408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lfvén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06320" y="5943600"/>
            <a:ext cx="415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lectric current filamentation (Bell 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ime scales and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330800" cy="432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70680" y="2819520"/>
            <a:ext cx="53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f dominant losses due to expansion  or shock ag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ut off equivalent to Hillas criterium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048120" y="3733920"/>
            <a:ext cx="3238560" cy="387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700600" y="5318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apping for Fermi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2971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2057400"/>
            <a:ext cx="0" cy="20574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905120" y="24382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0360" y="3914640"/>
            <a:ext cx="4362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2 master variables and 2 slave variab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Recursions of 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,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;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, t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3080" y="1935000"/>
            <a:ext cx="407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alculation of the conditional retu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robabilities to the moving front, a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unction of the ang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18920" y="3230640"/>
            <a:ext cx="36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Mapping random or determi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10040" y="2743200"/>
            <a:ext cx="1519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2680" y="2438280"/>
            <a:ext cx="7610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208600" y="2362680"/>
            <a:ext cx="91656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06" y="8"/>
                </a:moveTo>
                <a:arcTo wR="10800" hR="10800" stAng="-5270835" swAng="5006672"/>
                <a:lnTo>
                  <a:pt x="10800" y="10800"/>
                </a:lnTo>
                <a:close/>
              </a:path>
              <a:path fill="none" w="21600" h="21600">
                <a:moveTo>
                  <a:pt x="11206" y="8"/>
                </a:moveTo>
                <a:arcTo wR="10800" hR="10800" stAng="-5270835" swAng="500667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2284920" y="2514240"/>
            <a:ext cx="91656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358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3583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24240" y="2592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34080" y="33544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25360" y="4876920"/>
            <a:ext cx="642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non-relativistic regime,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non relevant an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very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t true in relativistic regi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3060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0512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yro-phase Correlation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hibition of Fermi cyc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41840" y="1706400"/>
            <a:ext cx="39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stream,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because of the short visi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1854360" cy="396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64120" y="2133720"/>
            <a:ext cx="858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articles experience a quasi organised large scale magnetic field upstrea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if usual direct turbulent cascade (like Kolmogorov) from large scale to short s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7240" y="3429000"/>
            <a:ext cx="563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ownstream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?  Generic situatio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 strongly compressed transverse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 particle experience an almost organized transver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ield that kicks it back in less than a Larmor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5029200"/>
            <a:ext cx="579096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Return d -&gt; u possible if and only if -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 &lt; 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 baseline="-25000">
                <a:solidFill>
                  <a:srgbClr val="009999"/>
                </a:solidFill>
                <a:latin typeface="Times New Roman"/>
              </a:rPr>
              <a:t>d</a:t>
            </a:r>
            <a:r>
              <a:rPr b="0" lang="fr-FR" sz="2000" spc="-1" strike="noStrike" baseline="30000">
                <a:solidFill>
                  <a:srgbClr val="009999"/>
                </a:solidFill>
                <a:latin typeface="Times New Roman"/>
              </a:rPr>
              <a:t>(i)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-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fr-FR" sz="2000" spc="-1" strike="noStrike" baseline="-25000">
                <a:solidFill>
                  <a:srgbClr val="009999"/>
                </a:solidFill>
                <a:latin typeface="Times New Roman"/>
              </a:rPr>
              <a:t>m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</a:t>
            </a:r>
            <a:r>
              <a:rPr b="0" lang="fr-FR" sz="2400" spc="-1" strike="noStrike">
                <a:solidFill>
                  <a:srgbClr val="009999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11411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911411"/>
                </a:solidFill>
                <a:latin typeface="Times New Roman"/>
              </a:rPr>
              <a:t>bu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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 baseline="-25000">
                <a:solidFill>
                  <a:srgbClr val="009999"/>
                </a:solidFill>
                <a:latin typeface="Times New Roman"/>
              </a:rPr>
              <a:t>u</a:t>
            </a:r>
            <a:r>
              <a:rPr b="0" lang="fr-FR" sz="2000" spc="-1" strike="noStrike" baseline="30000">
                <a:solidFill>
                  <a:srgbClr val="009999"/>
                </a:solidFill>
                <a:latin typeface="Times New Roman"/>
              </a:rPr>
              <a:t>(i)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,  0 &lt; 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’</a:t>
            </a:r>
            <a:r>
              <a:rPr b="0" lang="fr-FR" sz="2000" spc="-1" strike="noStrike" baseline="-25000">
                <a:solidFill>
                  <a:srgbClr val="009999"/>
                </a:solidFill>
                <a:latin typeface="Times New Roman"/>
              </a:rPr>
              <a:t>d</a:t>
            </a:r>
            <a:r>
              <a:rPr b="0" lang="fr-FR" sz="2000" spc="-1" strike="noStrike" baseline="30000">
                <a:solidFill>
                  <a:srgbClr val="009999"/>
                </a:solidFill>
                <a:latin typeface="Times New Roman"/>
              </a:rPr>
              <a:t>(i)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-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fr-FR" sz="2000" spc="-1" strike="noStrike" baseline="-25000">
                <a:solidFill>
                  <a:srgbClr val="009999"/>
                </a:solidFill>
                <a:latin typeface="Times New Roman"/>
              </a:rPr>
              <a:t>m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009999"/>
                </a:solidFill>
                <a:latin typeface="Times New Roman"/>
              </a:rPr>
              <a:t>&lt;</a:t>
            </a:r>
            <a:r>
              <a:rPr b="0" lang="fr-FR" sz="2000" spc="-1" strike="noStrike">
                <a:solidFill>
                  <a:srgbClr val="009999"/>
                </a:solidFill>
                <a:latin typeface="Symbol"/>
                <a:ea typeface="Symbol"/>
              </a:rPr>
              <a:t></a:t>
            </a:r>
            <a:r>
              <a:rPr b="0" lang="fr-FR" sz="2400" spc="-1" strike="noStrike">
                <a:solidFill>
                  <a:srgbClr val="009999"/>
                </a:solidFill>
                <a:latin typeface="Symbol"/>
                <a:ea typeface="Symbol"/>
              </a:rPr>
              <a:t></a:t>
            </a:r>
            <a:r>
              <a:rPr b="0" lang="fr-FR" sz="2000" spc="-1" strike="noStrike">
                <a:solidFill>
                  <a:srgbClr val="911411"/>
                </a:solidFill>
                <a:latin typeface="Times New Roman"/>
              </a:rPr>
              <a:t>return impossibl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16320" y="5791320"/>
            <a:ext cx="44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. Lemoine, G.P., B. Revenu ApJ L 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20530800">
            <a:off x="6172200" y="3733560"/>
            <a:ext cx="2133720" cy="1447560"/>
          </a:xfrm>
          <a:prstGeom prst="parallelogram">
            <a:avLst>
              <a:gd name="adj" fmla="val 36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553080" y="4266720"/>
            <a:ext cx="1219320" cy="3812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97880" y="411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31520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78640" y="4191120"/>
            <a:ext cx="812880" cy="876240"/>
          </a:xfrm>
          <a:custGeom>
            <a:avLst/>
            <a:gdLst/>
            <a:ahLst/>
            <a:rect l="l" t="t" r="r" b="b"/>
            <a:pathLst>
              <a:path w="512" h="552">
                <a:moveTo>
                  <a:pt x="512" y="384"/>
                </a:moveTo>
                <a:cubicBezTo>
                  <a:pt x="500" y="424"/>
                  <a:pt x="488" y="464"/>
                  <a:pt x="464" y="480"/>
                </a:cubicBezTo>
                <a:cubicBezTo>
                  <a:pt x="440" y="496"/>
                  <a:pt x="408" y="472"/>
                  <a:pt x="368" y="480"/>
                </a:cubicBezTo>
                <a:cubicBezTo>
                  <a:pt x="328" y="488"/>
                  <a:pt x="280" y="520"/>
                  <a:pt x="224" y="528"/>
                </a:cubicBezTo>
                <a:cubicBezTo>
                  <a:pt x="168" y="536"/>
                  <a:pt x="64" y="552"/>
                  <a:pt x="32" y="528"/>
                </a:cubicBezTo>
                <a:cubicBezTo>
                  <a:pt x="0" y="504"/>
                  <a:pt x="24" y="416"/>
                  <a:pt x="32" y="384"/>
                </a:cubicBezTo>
                <a:cubicBezTo>
                  <a:pt x="40" y="352"/>
                  <a:pt x="72" y="376"/>
                  <a:pt x="80" y="336"/>
                </a:cubicBezTo>
                <a:cubicBezTo>
                  <a:pt x="88" y="296"/>
                  <a:pt x="64" y="200"/>
                  <a:pt x="80" y="144"/>
                </a:cubicBezTo>
                <a:cubicBezTo>
                  <a:pt x="96" y="88"/>
                  <a:pt x="136" y="44"/>
                  <a:pt x="1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934320" y="4038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086600" y="3886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38862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2388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53640" y="4419720"/>
            <a:ext cx="56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67480" y="3733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77960" y="3048120"/>
            <a:ext cx="48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 generically very transverse in front frame 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311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8440" y="609480"/>
            <a:ext cx="46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Émissions de haute é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3962520" cy="2949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048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vidence of the statement in numerical experi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(M. Lemoine, G.P., B. Revenu 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86880" y="2666880"/>
            <a:ext cx="563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Same scattering medium as in previous simu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with a Kolmogorov turbu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•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n oblique field, very compressed down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    •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ut with full trajectory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aps of egress and ingress particle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 2D-velocity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505320" cy="31021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505320" cy="31006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47480" y="4648320"/>
            <a:ext cx="4237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Mapping from downstream to upstream and back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upstream, as measured in the upstream rest fra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The solid blue area shows the region of egress upstre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coordinates, which permits the particle to return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shock from downstream. The green circled area sho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how the original downstream particle population map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upon entering upstream, and the red kidney-shap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region shows the mapping of this popul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on exit from up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09880" y="5029200"/>
            <a:ext cx="4242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Each contour represents a drop in return prob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by a factor of 2.4; the lighter the shading, the high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the return probability, with black corresponding to zer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The yellow circles and kidney-shaped curves ar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same as those shown in Fig. 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straint on turbu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0760" y="2895480"/>
            <a:ext cx="61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further Fermi cycles, necessity of an inte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stream turbulenc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t short sca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44200" y="1981080"/>
            <a:ext cx="59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that situation one and half Fermi cycl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505320" y="4419720"/>
            <a:ext cx="2133360" cy="4111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444840" y="5029200"/>
            <a:ext cx="232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 on scale r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51040" y="3809880"/>
            <a:ext cx="572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Need of a change of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of an amount 1/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during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Times New Roman"/>
              </a:rPr>
              <a:t>s</a:t>
            </a:r>
            <a:r>
              <a:rPr b="0" lang="en-US" sz="2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eneration of an intense turbulence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on small sca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3657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5280" y="2806560"/>
            <a:ext cx="4191120" cy="851040"/>
          </a:xfrm>
          <a:custGeom>
            <a:avLst/>
            <a:gdLst/>
            <a:ahLst/>
            <a:rect l="l" t="t" r="r" b="b"/>
            <a:pathLst>
              <a:path w="1872" h="488">
                <a:moveTo>
                  <a:pt x="0" y="8"/>
                </a:moveTo>
                <a:cubicBezTo>
                  <a:pt x="96" y="4"/>
                  <a:pt x="192" y="0"/>
                  <a:pt x="288" y="8"/>
                </a:cubicBezTo>
                <a:cubicBezTo>
                  <a:pt x="384" y="16"/>
                  <a:pt x="488" y="24"/>
                  <a:pt x="576" y="56"/>
                </a:cubicBezTo>
                <a:cubicBezTo>
                  <a:pt x="664" y="88"/>
                  <a:pt x="744" y="152"/>
                  <a:pt x="816" y="200"/>
                </a:cubicBezTo>
                <a:cubicBezTo>
                  <a:pt x="888" y="248"/>
                  <a:pt x="928" y="304"/>
                  <a:pt x="1008" y="344"/>
                </a:cubicBezTo>
                <a:cubicBezTo>
                  <a:pt x="1088" y="384"/>
                  <a:pt x="1152" y="416"/>
                  <a:pt x="1296" y="440"/>
                </a:cubicBezTo>
                <a:cubicBezTo>
                  <a:pt x="1440" y="464"/>
                  <a:pt x="1656" y="476"/>
                  <a:pt x="187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38920" y="28209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97680" y="2316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05520" y="297180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41040" y="2440080"/>
            <a:ext cx="9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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43200" y="3962520"/>
            <a:ext cx="59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lux of  modes with strong relativistic Doppler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59240" y="4495680"/>
            <a:ext cx="62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ormation of magneto-sonic structures instead of 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91800" y="1676520"/>
            <a:ext cx="52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Special theory for</a:t>
            </a: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perluminal</a:t>
            </a: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relativistic sh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514600"/>
            <a:ext cx="0" cy="1523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2514600"/>
            <a:ext cx="24382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nera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gneto-sonic wa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 coupled A-wav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9400" y="5029200"/>
            <a:ext cx="791028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ast growing modes at short scale, suitable for generating turbulence a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cale as short as 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smallest MHD scale). The generation of CRs at the fir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ermi cycle have 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~ 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y will undergo further Fermi cycles if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/B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&gt;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mplified field and cut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3200400" cy="7905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1447920" y="2057400"/>
            <a:ext cx="2819160" cy="4698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2819520" cy="3715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052640" y="5181480"/>
            <a:ext cx="681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xternal shock of GRBs insufficient for reaching UHECR rang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ven with a dense ejec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Reverse shock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273528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OK for the generation of the radiative electrons responsible for the GRB afterg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4640" y="3733920"/>
            <a:ext cx="72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cceleration time controled by downstream diffusion across th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762120" y="4470480"/>
            <a:ext cx="1752480" cy="3301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3048120" y="4551480"/>
            <a:ext cx="1904760" cy="3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ther nonlinear theories or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45560" y="227016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. Ellison &amp; co-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ermi acceleration by multiple scattering off relativistic magnetized 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78400" y="5059440"/>
            <a:ext cx="773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articles escape by difusion in through shocked sheet, or simply beca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hey eventually moves towards a  region where their energy is larger th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he local confinement limit (si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&gt;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1447920" cy="5205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332960" y="2057400"/>
            <a:ext cx="436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ven if mildly relativistic like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o-moving frame of a GRB free flo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 tens of scatterings produce an effic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ccel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cceleration at a relativistic e</a:t>
            </a:r>
            <a:r>
              <a:rPr b="0" lang="en-US" sz="32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-e</a:t>
            </a:r>
            <a:r>
              <a:rPr b="0" lang="en-US" sz="32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-sh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26080" y="216360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J. A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42280" y="2163600"/>
            <a:ext cx="576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hermalisation, No power law unless some amount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rotons or other nuclei like iron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cceleration in a sheared relativistic j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38440" y="2362320"/>
            <a:ext cx="569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Ostrow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Intense wave in a  stratified flow (Lyutikov &amp; Ouy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Quelques références sur la 2nde partie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relativis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rk &amp; Schneider (86) Ap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elman &amp; Kirk (90) Ap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lant &amp; Achterberg (99) MN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hterberg, Gallant, Kirk, Guthmann, (01) MN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moine &amp; Pelletier (03) ApJ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tri (05) Ap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moine, Pelletier, Revenu (06) ApJ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shet &amp; Waxman (05) Phys Rev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trow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dnarz &amp; Ostrowski (98) Phys Rev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mec &amp; Ostrowski (06) Ap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son &amp; Double (02) Ap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cosmic ray spectru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510080" cy="556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562720" y="13716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Galactic C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281952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tragalactic C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560" y="388620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enigma of UHEC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9520" y="1905120"/>
            <a:ext cx="313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Up to 10</a:t>
            </a:r>
            <a:r>
              <a:rPr b="0" lang="en-US" sz="2000" spc="-1" strike="noStrike" baseline="30000">
                <a:solidFill>
                  <a:srgbClr val="009999"/>
                </a:solidFill>
                <a:latin typeface="Times New Roman"/>
              </a:rPr>
              <a:t>14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V (SN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or to 10</a:t>
            </a:r>
            <a:r>
              <a:rPr b="0" lang="en-US" sz="2000" spc="-1" strike="noStrike" baseline="30000">
                <a:solidFill>
                  <a:srgbClr val="009999"/>
                </a:solidFill>
                <a:latin typeface="Times New Roman"/>
              </a:rPr>
              <a:t>17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V Super Bubb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4040" y="3352680"/>
            <a:ext cx="30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GNs, GRBs up to 10</a:t>
            </a:r>
            <a:r>
              <a:rPr b="0" lang="en-US" sz="2000" spc="-1" strike="noStrike" baseline="30000">
                <a:solidFill>
                  <a:srgbClr val="009999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V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52578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Very isotropi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xcept small scal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cluster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3640" y="59436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 physi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4419720"/>
            <a:ext cx="327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1000 events &gt;10</a:t>
            </a:r>
            <a:r>
              <a:rPr b="0" lang="en-US" sz="2000" spc="-1" strike="noStrike" baseline="30000">
                <a:solidFill>
                  <a:srgbClr val="009999"/>
                </a:solidFill>
                <a:latin typeface="Times New Roman"/>
              </a:rPr>
              <a:t>19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100 &gt; 4x 10</a:t>
            </a:r>
            <a:r>
              <a:rPr b="0" lang="en-US" sz="2000" spc="-1" strike="noStrike" baseline="30000">
                <a:solidFill>
                  <a:srgbClr val="009999"/>
                </a:solidFill>
                <a:latin typeface="Times New Roman"/>
              </a:rPr>
              <a:t>19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V, 15 &gt; 10</a:t>
            </a:r>
            <a:r>
              <a:rPr b="0" lang="en-US" sz="2000" spc="-1" strike="noStrike" baseline="30000">
                <a:solidFill>
                  <a:srgbClr val="009999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Ultra High Energy Cosmic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676520"/>
            <a:ext cx="66452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-Possible astrophysical sources (“bottom up” scena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           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GNs and GR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ut a very efficient acceleration mechanism need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-New physics objects (“top down” scena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ecay of topological defects, of exotic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41280" y="4411800"/>
            <a:ext cx="9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1148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erre Auger Observa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1160" y="533412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Statistics, energy resolution, dir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15000" y="3662280"/>
            <a:ext cx="297180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280600" y="5867280"/>
            <a:ext cx="33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e first Auger spectrum 05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1600" y="4572000"/>
            <a:ext cx="427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cherenkov detection: 1600 water t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over 3000 km</a:t>
            </a:r>
            <a:r>
              <a:rPr b="0" lang="en-US" sz="2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+ fluorescence det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ZK cut-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8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2590920"/>
            <a:ext cx="4303080" cy="2743200"/>
            <a:chOff x="457200" y="2590920"/>
            <a:chExt cx="4303080" cy="274320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457200" y="2590920"/>
              <a:ext cx="4114800" cy="2743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1" name=""/>
            <p:cNvSpPr/>
            <p:nvPr/>
          </p:nvSpPr>
          <p:spPr>
            <a:xfrm>
              <a:off x="3706560" y="3174120"/>
              <a:ext cx="18936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98200" y="290484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air production energy l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10880" y="3942000"/>
              <a:ext cx="284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ion production energy l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90080" y="4417200"/>
              <a:ext cx="1707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ion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4280" y="4211280"/>
              <a:ext cx="253800" cy="3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78880" y="4683240"/>
              <a:ext cx="31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38440" y="1371600"/>
            <a:ext cx="364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ove E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V, on CM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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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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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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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28932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64880" y="4800600"/>
            <a:ext cx="26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rom Bahcall &amp; Waxman 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5960" y="5486400"/>
            <a:ext cx="34250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ve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, 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ec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50 Mpc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89920" y="594360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violation of Lorentz invariance? unlikely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1520" y="5181480"/>
            <a:ext cx="37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urrent data confirm GZK cut of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No evidence of clustering so fa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uger UHECR spectrum 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733920" cy="294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2048040"/>
            <a:ext cx="3809880" cy="2984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95920" y="571500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strophysical fits of th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7800" y="5257800"/>
            <a:ext cx="30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Yamamoto &amp; Pierre Aug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collaboration ICRC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ierre Auger collaboration results ICRC 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GZK cut off (thus no violation of Lorentz invari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No anisotropy, especially towards the Galactic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No clustering that would indicate some extragalactic perman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Especially no clustering in the direction of closest BL-Lac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hus no evidence of top down scena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vidence of an extragalactic 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No evidence of generation by some class of AGNs till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sible generation by GRBs, but ?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3:09:32Z</dcterms:created>
  <dc:creator>Guy Pelletier</dc:creator>
  <dc:description/>
  <dc:language>en-US</dc:language>
  <cp:lastModifiedBy>Guy Pelletier</cp:lastModifiedBy>
  <dcterms:modified xsi:type="dcterms:W3CDTF">2007-09-11T06:23:58Z</dcterms:modified>
  <cp:revision>313</cp:revision>
  <dc:subject/>
  <dc:title>Accélération de Fermi</dc:title>
</cp:coreProperties>
</file>