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E76-5A4C-42D0-BFDA-81CD3B54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7866-E50F-4590-86BB-CA34ED79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39F-1A13-40C1-9408-68948C54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72A-2B23-41D0-9445-EC78BAC4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032-AD42-496E-BA14-CFB0E14F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145-189B-42A1-9101-34BEC5C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732-8D80-4E01-92CB-BF6D9022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492-69BC-4EF0-B218-E7C873F5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F94-8920-4483-BF96-CC7E5B57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DCE4-0EE4-4D2B-B469-A24F89F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16E-ED33-49EF-AB46-A9783D4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BAC-C46D-49AB-B673-1D40E914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BBD3-98C6-456B-8C0A-D53FD00D2D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straining the internal structure of dwarf galaxies with their tidal strea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. E. Sand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 Bertsch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polytro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polytro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isotherm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37192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isotherma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radial infa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0704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radial infa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ructure of radial-infall model dramatically preserved during me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profiles with inner cusps ruled out for thi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l structure of radial-infall model rul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Along the way we noticed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ness of radial orbits ins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-body heating effects in phase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500"/>
                </a:solidFill>
                <a:latin typeface="Arial"/>
              </a:rPr>
              <a:t>Base model: M31 giant stream and caustic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ed by Fardal et al. (20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 morphology and velocity ob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3-component model of M31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mer sphere proge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4851360" cy="4711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7620120" y="2895480"/>
            <a:ext cx="761760" cy="38124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609480" cy="609480"/>
          </a:xfrm>
          <a:prstGeom prst="line">
            <a:avLst/>
          </a:prstGeom>
          <a:ln w="47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6781320" y="4800240"/>
            <a:ext cx="838440" cy="15228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13360" y="180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2133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cau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67652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Second cau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43800" y="47401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ant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857680" y="1523880"/>
            <a:ext cx="6286320" cy="4718160"/>
            <a:chOff x="2857680" y="1523880"/>
            <a:chExt cx="6286320" cy="471816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857680" y="1523880"/>
              <a:ext cx="6286320" cy="47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5175360" y="2717640"/>
              <a:ext cx="702000" cy="351360"/>
            </a:xfrm>
            <a:prstGeom prst="line">
              <a:avLst/>
            </a:prstGeom>
            <a:ln w="475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77720" y="2436840"/>
              <a:ext cx="24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First caus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964400" y="3349800"/>
              <a:ext cx="983160" cy="351360"/>
            </a:xfrm>
            <a:prstGeom prst="line">
              <a:avLst/>
            </a:prstGeom>
            <a:ln w="4752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77720" y="3069360"/>
              <a:ext cx="250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Arial"/>
                </a:rPr>
                <a:t>Second caus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" y="2133720"/>
            <a:ext cx="259092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bit is nearly rad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ustics form at turning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enitor is completely disrup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500"/>
                </a:solidFill>
                <a:latin typeface="Arial"/>
              </a:rPr>
              <a:t>Base model: M31 giant stream and caustics</a:t>
            </a:r>
            <a:endParaRPr b="0" lang="en-US" sz="36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Changing the mass profile changes the final morphology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ed several pro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trope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thermal spher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eme case: radial inf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d to same half-mass radius as Plummer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mass, initial conditions, M31 model, elapsed time of mer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28600" y="6067440"/>
            <a:ext cx="47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created with Zeno (Josh Bar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Self-similar radial infa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enitor has intern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ulated with self-consistent initial conditions (Fillmore &amp; Goldreich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95280" y="2111400"/>
            <a:ext cx="6324840" cy="4746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7400" y="4191120"/>
            <a:ext cx="2286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361960" y="3124080"/>
            <a:ext cx="990360" cy="1067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895480"/>
            <a:ext cx="3444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mall, smooth Plummer core included to improve samp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M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satellite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= 0.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257800"/>
            <a:ext cx="32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orbit instability and two-body heating suppressed with larger softening length (50 p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Density and Mass Profi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7848360" cy="4954320"/>
        </p:xfrm>
        <a:graphic>
          <a:graphicData uri="http://schemas.openxmlformats.org/drawingml/2006/table">
            <a:tbl>
              <a:tblPr/>
              <a:tblGrid>
                <a:gridCol w="3886200"/>
                <a:gridCol w="1981080"/>
                <a:gridCol w="1981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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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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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3/5 polytr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ly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othermal sp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dial infall (averag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/4 (2.2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/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mmer sp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/2 (2.5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4 polytro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/3 (2.67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26560" cy="5626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Mass profiles compared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752480"/>
            <a:ext cx="685800" cy="304920"/>
          </a:xfrm>
          <a:prstGeom prst="line">
            <a:avLst/>
          </a:prstGeom>
          <a:ln w="47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36640" y="141912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nal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polytro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436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e500"/>
                </a:solidFill>
                <a:latin typeface="Arial"/>
              </a:rPr>
              <a:t>Results: polytrop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0:59:57Z</dcterms:created>
  <dc:creator>Robyn</dc:creator>
  <dc:description/>
  <dc:language>en-US</dc:language>
  <cp:lastModifiedBy>edbert</cp:lastModifiedBy>
  <dcterms:modified xsi:type="dcterms:W3CDTF">2009-11-03T10:20:53Z</dcterms:modified>
  <cp:revision>21</cp:revision>
  <dc:subject/>
  <dc:title>Constraining the mass profiles of dwarf galaxies with their tidal streams</dc:title>
</cp:coreProperties>
</file>